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2BB-0326-4EF9-BD82-1A41CFA8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B24-2D1C-4120-B2BB-1949904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B2B-A584-4C82-A45A-DB999A30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086-CCF1-45E7-B905-B7EACA4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ADA-912F-4B96-91CD-8D2304A7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996-2646-46B8-9F3F-6B30F22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A7D-5674-4770-B4B4-D4998D54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789-3E9A-412F-9EC3-2BB95451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B90-26AD-4A14-B3A3-7F7492DC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C86-6433-4936-9074-68DC938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1BE-D6F0-4173-AB62-789426A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805-9E45-41B7-A498-936DED9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9DD7-ABD1-482A-ADB9-23E4E629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плом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Комплекс наземного слежения 1К119. Модернизация блока 1Б50 – устройство обработки сейсмосигна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 видимость между приемной и передающей ант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484280"/>
          <a:ext cx="8136000" cy="46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13600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рупненный состав и структура комплекса 1К1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80360" cy="30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80360" cy="30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электрическая структурная блока Фи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5640" y="1600200"/>
          <a:ext cx="8170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600200"/>
                    <a:ext cx="8170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ема электрическая принципиальная блока 1Б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58920" y="1413000"/>
          <a:ext cx="6767640" cy="47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13000"/>
                    <a:ext cx="676764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тель сообщени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ема электрическая принцип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19280" y="1557360"/>
          <a:ext cx="532908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557360"/>
                    <a:ext cx="532908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ель сообщени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хема электрическая принцип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628640"/>
          <a:ext cx="52578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2578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тарейный от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1557360"/>
          <a:ext cx="662472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557360"/>
                    <a:ext cx="66247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ФиПС. Габарит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2360" y="1052640"/>
          <a:ext cx="583236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52640"/>
                    <a:ext cx="58323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тевой 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413000"/>
          <a:ext cx="82803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803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8:11:39Z</dcterms:created>
  <dc:creator>Р</dc:creator>
  <dc:description/>
  <dc:language>en-US</dc:language>
  <cp:lastModifiedBy>Р</cp:lastModifiedBy>
  <dcterms:modified xsi:type="dcterms:W3CDTF">2005-06-29T08:29:22Z</dcterms:modified>
  <cp:revision>10</cp:revision>
  <dc:subject/>
  <dc:title>Дипломный проект</dc:title>
</cp:coreProperties>
</file>