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B76B-899A-4FA1-B0B2-DEE92F39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45F3-FD5B-4ECD-8233-E36986FD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4E3A-A90C-4BAA-8376-A31DD1832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6FE7-16FD-4DF4-A39D-EC39806C8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F6054-1B95-4A5C-A5F1-611531CE6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F1C3E-B152-4423-B543-EB8C0F41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5A901-A597-442B-BE77-AF8FF7CE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354E0-2C5D-4C4D-811E-EDDD3C02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6E582-55E8-4884-BA18-E4C7707A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90551-9D13-4AF9-8195-0720811A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45E44-8DFC-4603-AE90-CF93217E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89E7-4E30-43A7-8119-A5E36AA6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BD04E-E6D4-4A0E-9379-F7DD9795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874CB-A7D1-4C06-92A5-87A14BEE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C9162-7480-4BC6-9893-2DF8EFE4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EE607-5320-49E9-AF8D-E8B4F0884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7E4B1-7A2C-462C-935A-CC0D647A4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C81D-F970-4A97-818C-643BA08A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F0E7-8B18-4288-AE25-7EE323E8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C920-0C4D-43E0-834B-E3D054EE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1382-ED7C-479D-BCFC-07FB3130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9419-4D82-4012-B65F-6429F5CE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F1D3-69FE-4079-89CD-C15FC3C0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B49D-6D83-4B17-BEC7-0019A59F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27CB-CCCD-4565-AB32-328639629C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379E-D3A8-477E-B9E2-6730D8FC0C7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3068640"/>
            <a:ext cx="8059680" cy="201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озможности деятельности специалиста по социальной работе в решении проблемы одиночества пожилых людей (на примере отделения социального обслуживания на дому граждан пожилого возраста и инвалидов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МУ КЦСОН «Гармония» г. Устюжн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ак вы пытаетесь решить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эти проблемы?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905120"/>
          <a:ext cx="8229600" cy="4784760"/>
        </p:xfrm>
        <a:graphic>
          <a:graphicData uri="http://schemas.openxmlformats.org/drawingml/2006/table">
            <a:tbl>
              <a:tblPr/>
              <a:tblGrid>
                <a:gridCol w="4272120"/>
                <a:gridCol w="1900080"/>
                <a:gridCol w="2057400"/>
              </a:tblGrid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о выбор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амостоятельн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бращаюсь к соседя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бращаюсь к близким родственника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бращаюсь к социальному работник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Чувствуете ли вы себя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диноким человеком?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905120"/>
          <a:ext cx="8229600" cy="4114800"/>
        </p:xfrm>
        <a:graphic>
          <a:graphicData uri="http://schemas.openxmlformats.org/drawingml/2006/table">
            <a:tbl>
              <a:tblPr/>
              <a:tblGrid>
                <a:gridCol w="4114800"/>
                <a:gridCol w="2057400"/>
                <a:gridCol w="205740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о выбор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т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трудняюсь ответи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ругое (редко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Боитесь ли вы одиночества?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сли да, то почему?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905120"/>
          <a:ext cx="8229600" cy="4410000"/>
        </p:xfrm>
        <a:graphic>
          <a:graphicData uri="http://schemas.openxmlformats.org/drawingml/2006/table">
            <a:tbl>
              <a:tblPr/>
              <a:tblGrid>
                <a:gridCol w="4425840"/>
                <a:gridCol w="1746360"/>
                <a:gridCol w="2057400"/>
              </a:tblGrid>
              <a:tr h="61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о выбор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5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оюсь, потому что совсем одн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7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оюсь, даже поговорить не с кем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а, страшно умереть в одиночеств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гда заболеешь, страшно лежать одной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оюсь, что жена умрёт раньше мен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ак вы проводите своё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вободное время?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905120"/>
          <a:ext cx="8229600" cy="4236840"/>
        </p:xfrm>
        <a:graphic>
          <a:graphicData uri="http://schemas.openxmlformats.org/drawingml/2006/table">
            <a:tbl>
              <a:tblPr/>
              <a:tblGrid>
                <a:gridCol w="4114800"/>
                <a:gridCol w="2057400"/>
                <a:gridCol w="2057400"/>
              </a:tblGrid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о выбор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бщаюсь с соседям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итаю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мотрю телевизо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Ухаживаю за растениям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акие из событий в мире и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 нашей стране интересуют вас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 большей степени?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905120"/>
          <a:ext cx="8229600" cy="4236840"/>
        </p:xfrm>
        <a:graphic>
          <a:graphicData uri="http://schemas.openxmlformats.org/drawingml/2006/table">
            <a:tbl>
              <a:tblPr/>
              <a:tblGrid>
                <a:gridCol w="4114800"/>
                <a:gridCol w="2057400"/>
                <a:gridCol w="2057400"/>
              </a:tblGrid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о выбор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литик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Экономик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ультур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ругое (смотрю сериалы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Что вам необходимо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для активной жизни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905120"/>
          <a:ext cx="8229600" cy="4114800"/>
        </p:xfrm>
        <a:graphic>
          <a:graphicData uri="http://schemas.openxmlformats.org/drawingml/2006/table">
            <a:tbl>
              <a:tblPr/>
              <a:tblGrid>
                <a:gridCol w="4114800"/>
                <a:gridCol w="2057400"/>
                <a:gridCol w="205740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о выбор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йти интересное занят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нимание окружающи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доровье, физические сил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омогает ли вам не испытывать одиночество общение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 социальными работниками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9640" y="2708280"/>
          <a:ext cx="7948800" cy="2073240"/>
        </p:xfrm>
        <a:graphic>
          <a:graphicData uri="http://schemas.openxmlformats.org/drawingml/2006/table">
            <a:tbl>
              <a:tblPr/>
              <a:tblGrid>
                <a:gridCol w="3975120"/>
                <a:gridCol w="1986120"/>
                <a:gridCol w="1987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о выбор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т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трудняюсь ответи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Rectangle 77"/>
          <p:cNvSpPr/>
          <p:nvPr/>
        </p:nvSpPr>
        <p:spPr>
          <a:xfrm>
            <a:off x="0" y="40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Если помогает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о в чём это проявляетс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68360" y="1844640"/>
          <a:ext cx="8136000" cy="4389480"/>
        </p:xfrm>
        <a:graphic>
          <a:graphicData uri="http://schemas.openxmlformats.org/drawingml/2006/table">
            <a:tbl>
              <a:tblPr/>
              <a:tblGrid>
                <a:gridCol w="5040360"/>
                <a:gridCol w="1727280"/>
                <a:gridCol w="1368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о выбор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говорит и на душе легче становит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спытываю радость при общен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Узнаю что-то новое, интересно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сть с кем поделиться бедами, проблем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сегда выслушает, успокоит, помогают в трудную минут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Люблю поговорить о прошлом, а социальный работник всегда выслуша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Жду с нетерпением дня, когда придёт социальный работн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Rectangle 154"/>
          <p:cNvSpPr/>
          <p:nvPr/>
        </p:nvSpPr>
        <p:spPr>
          <a:xfrm>
            <a:off x="0" y="507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Рекомендации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ктивнее внедрять эффективные социальные технологии (мобильная социальная помощь гражданам, проживающим в отдалённых деревнях, выездные социальные дни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оздание мини-клубов на дому, с целью расширения круга общения клиент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ривлечение волонтеров в работе с пожилыми людьми и инвалид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Улучшение качества обслуживания населения через создание участковых социальных служб на территориях муниципальных образован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оздание альбома жизнеописания клиентов (запись впечатлений от прожитой жизни, наиболее ярких воспоминаний, описание событий, происходящих в настоящее время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4"/>
          <p:cNvSpPr txBox="1"/>
          <p:nvPr/>
        </p:nvSpPr>
        <p:spPr>
          <a:xfrm>
            <a:off x="539640" y="2924280"/>
            <a:ext cx="813600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Спасибо за внимание!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Times New Roman"/>
              </a:rPr>
              <a:t>Объект исследования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: одиночество как социальная проблема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2600" spc="-1" strike="noStrike">
                <a:solidFill>
                  <a:srgbClr val="ff0000"/>
                </a:solidFill>
                <a:latin typeface="Times New Roman"/>
              </a:rPr>
              <a:t>Предмет исследования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: возможности специалиста по социальной работе в решении проблемы одиночества пожилых люде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2600" spc="-1" strike="noStrike">
                <a:solidFill>
                  <a:srgbClr val="ff0000"/>
                </a:solidFill>
                <a:latin typeface="Times New Roman"/>
              </a:rPr>
              <a:t>Цель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: Изучить возможности специалиста по социальной работе отделения социального обслуживания на дому граждан пожилого возраста и инвалидов в решении проблемы одиночества пожилых люде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ff0000"/>
                </a:solidFill>
                <a:uFillTx/>
                <a:latin typeface="Times New Roman"/>
              </a:rPr>
              <a:t>Задачи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Проанализировать литературу по проблеме одиночества пожилых люде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Раскрыть особенности деятельности специалиста по социальной работе отделения социального обслуживания на дому граждан пожилого возраста и инвалидов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Провести исследование анализа проблемы  одиночества среди  пожилых люде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Разработать рекомендации для специалистов по социальной работе по решению проблемы одиночества пожилых люде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Гипотеза: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ы предполагаем, что проблема одиночества для пожилых людей является первостепенной и как следствие специалист по социальной работе может выступать инициатором в решении этой пробле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c3300"/>
                </a:solidFill>
                <a:latin typeface="Times New Roman"/>
              </a:rPr>
              <a:t>Характеристика выборки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Line 96"/>
          <p:cNvSpPr/>
          <p:nvPr/>
        </p:nvSpPr>
        <p:spPr>
          <a:xfrm>
            <a:off x="2749680" y="3017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95280" y="2781360"/>
          <a:ext cx="8640720" cy="2592360"/>
        </p:xfrm>
        <a:graphic>
          <a:graphicData uri="http://schemas.openxmlformats.org/drawingml/2006/table">
            <a:tbl>
              <a:tblPr/>
              <a:tblGrid>
                <a:gridCol w="1225440"/>
                <a:gridCol w="503280"/>
                <a:gridCol w="647640"/>
                <a:gridCol w="503280"/>
                <a:gridCol w="865440"/>
                <a:gridCol w="1079280"/>
                <a:gridCol w="504720"/>
                <a:gridCol w="719280"/>
                <a:gridCol w="453960"/>
                <a:gridCol w="843120"/>
                <a:gridCol w="503280"/>
                <a:gridCol w="792000"/>
              </a:tblGrid>
              <a:tr h="552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Мужск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Женс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8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2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75-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80-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90 и с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60-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75-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80-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тносите ли вы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ебя к пожилым людя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1905120"/>
          <a:ext cx="8229600" cy="4114800"/>
        </p:xfrm>
        <a:graphic>
          <a:graphicData uri="http://schemas.openxmlformats.org/drawingml/2006/table">
            <a:tbl>
              <a:tblPr/>
              <a:tblGrid>
                <a:gridCol w="4114800"/>
                <a:gridCol w="2057400"/>
                <a:gridCol w="205740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о выбор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трудняюсь ответи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т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руго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3548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ак вы считаете, какие проблемы возникают у пожилых людей?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905120"/>
          <a:ext cx="8229600" cy="4114800"/>
        </p:xfrm>
        <a:graphic>
          <a:graphicData uri="http://schemas.openxmlformats.org/drawingml/2006/table">
            <a:tbl>
              <a:tblPr/>
              <a:tblGrid>
                <a:gridCol w="4114800"/>
                <a:gridCol w="2057400"/>
                <a:gridCol w="20574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о выбор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облемы со здоровье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атериальны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сихологически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диночеств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4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руго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акие из этих проблем больше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сего тревожат Вас?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905120"/>
          <a:ext cx="8229600" cy="4114800"/>
        </p:xfrm>
        <a:graphic>
          <a:graphicData uri="http://schemas.openxmlformats.org/drawingml/2006/table">
            <a:tbl>
              <a:tblPr/>
              <a:tblGrid>
                <a:gridCol w="4114800"/>
                <a:gridCol w="2057400"/>
                <a:gridCol w="205740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о выбор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доровь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диночеств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сихологически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атериальны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Как вы пытаетесь решить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эти проблемы?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905120"/>
          <a:ext cx="8229600" cy="4784760"/>
        </p:xfrm>
        <a:graphic>
          <a:graphicData uri="http://schemas.openxmlformats.org/drawingml/2006/table">
            <a:tbl>
              <a:tblPr/>
              <a:tblGrid>
                <a:gridCol w="4272120"/>
                <a:gridCol w="1900080"/>
                <a:gridCol w="2057400"/>
              </a:tblGrid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о выбор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амостоятельн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бращаюсь к соседя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бращаюсь к близким родственника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бращаюсь к социальному работник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5:03:24Z</dcterms:created>
  <dc:creator>User</dc:creator>
  <dc:description/>
  <dc:language>en-US</dc:language>
  <cp:lastModifiedBy>Максим</cp:lastModifiedBy>
  <dcterms:modified xsi:type="dcterms:W3CDTF">2010-10-27T18:53:24Z</dcterms:modified>
  <cp:revision>5</cp:revision>
  <dc:subject/>
  <dc:title>Возможности деятельности специалиста по социальной работе в решении проблемы одиночества пожилых людей (на примере отделения социального обслуживания на дому граждан пожилого возраста и инвалидов МУ КЦСОН «Гармония» г. Устюжна)</dc:title>
</cp:coreProperties>
</file>