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6D4A-85E2-463A-96DE-C1944E88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035B-01E3-4FB3-A025-0F2922C9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3258-2380-42AA-9940-4409D2FB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4644-4FA3-4FFE-A239-E8416C17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7565-C5F8-4EAD-B197-28611C97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1F42-90E8-45BA-A17A-36704B7A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2F5B-9739-493B-9027-A89E8913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F846-D413-407B-9DAC-73657270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6D4D-6C55-4D06-A88C-7A519DA3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5FC6-9FA3-4629-AF83-903423B4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F445-BC62-4A07-A91A-AE151222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C0484-A15C-4E6F-B75C-EE6D2B94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4EF3-BA0A-4541-87E8-9C1A681D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A808-960E-4830-8EBC-C63B139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68DE-7A82-4CDD-A49F-9DC235AC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43D5-7AA1-4596-9519-64D2CFBB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1850-9329-49D9-996A-BFC8BB1D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14FC-0E8B-43EF-AFEF-B509D3FE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CAFAB-454E-43E1-90B8-172C001E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16F7-B6E5-4F8D-875D-10C9788B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369B-8A5E-4399-BC90-7F793DBD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E213-6019-4421-9962-09A0514B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7BD3-826D-44B2-9BF6-AAB9B6E5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A79DA-7973-4E24-BAC5-F4E7C2D1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BCB46-748E-478D-AE26-3D00282E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60DD-0B5A-4EB5-9C4D-03FA4AA9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231A-B94E-4554-A196-75CB8F3F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12F2-AF97-4349-A3D1-F248E1C9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70A5-089A-44B0-8007-5D4F729F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31B0-3104-4BA1-9626-4CDF32CE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C01D-8F4E-4AC7-B7B0-0561CD42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DA57-0B4F-4E82-B21E-7C58DDC8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45E36-2A1B-4078-9495-AEA256F7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BD6C-58ED-4F1D-B94E-FDFE2E80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EFCB-AF20-4CD6-A4E4-FF9250A1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D2D99-BC53-44B3-AD2A-07EB7E6E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D0039-CFAD-4A15-BFAA-29BEDADA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EBF4-B256-4567-8AAF-2BC57B5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0156-604A-4C0B-8B3C-274685D3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3F77-17C5-4580-A9C6-310BB99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4F09-C8FA-4A2C-8E77-F18076C6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C9F02-8ADE-4BD6-82B0-680ED596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0B56D-4138-4ECA-A4F1-3703506E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CF0E9-92CA-4536-99D8-AEBBD511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B03E-02BA-40CB-9C59-3F755DA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34E4A-FF14-4E53-9804-D7774119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C9733-A00E-46BD-A9A6-9AE8C9DC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72E0C-DBF8-4E5B-B63E-31F304EE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B4828-6E51-416C-B0E4-10BD55E5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C0547-9343-43BE-A6D9-896A9E70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CF0BD-0CBF-49D1-8768-1F73790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74BCF-53DA-4C02-9043-BD3A10B3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B5B97-F253-4210-88ED-7E93358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C2106-1BF8-4980-9281-4FA0E08C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70DE7-E2D5-4430-91F8-D1BAA34A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4991-4EA0-4F23-9B00-93F08A09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9166D-0F24-48CA-B7FE-2A12DBB3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6FA9-16B7-46DB-A2A2-DB53ADFC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772C8-9989-40FC-8A34-7BF38A5E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B576-7495-48FC-AF36-832D91E0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0C55E-8634-4FAF-8B6B-AEB32552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771E6-D613-4591-AB1D-49FDA0DA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33711-3226-42F7-8696-B5F42750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1314-852C-4DC0-BA22-FF1CFD9E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851FD-D7B8-43F8-AE0A-5E45235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A3D90-88F2-412C-95C5-15EF72B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2668-7200-4E9B-A57E-F939175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2FF2C-1EC4-4F4E-B8C0-207F9238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69F07-BD75-45FD-A1D1-BD89770E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544EE-9F9C-4BF7-B78F-635834DC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DDF1D-E195-4F66-A965-2719BC4C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5133B-027D-4544-9394-AEC6C2F7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4862F-D205-4AB3-B023-4C09D3FF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FB9B2-C0A3-4322-8BF8-67B29FFE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D9BD-527D-4E11-B850-2A833C0B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EAF9B-34C8-4C58-A075-CDC88BE3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BE653-B86B-4348-8823-F4A075A3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AC28-E23D-453A-A104-858BB21D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254B-74FF-4A7D-A334-29DC308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67B58-BA25-4F1F-BAD5-70434E17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3D81D-FCE2-4DD4-8372-F81B8593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3AC7-43FD-4047-99C7-0DF6D395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6B3D4-A875-494F-BA76-6E58923B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EDD68-AB41-40EF-B1A0-195C5E9D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228F8-7925-497E-A32D-D31EFBA1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6C371-A234-4142-9C7C-59C4014D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4FCD9-1C53-4930-9C4D-D879CB4E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BC131-CAE5-4A93-AF95-6A378BE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B8D4-5A5D-4111-9216-803E8DFF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B1F08-D07D-4731-9295-35BBF6B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AEB84-BDAA-410C-9148-0A6B27E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C485A-2847-491F-8153-38150C5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2D214-0F50-42C2-A7E9-61BAA0F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DF937-AEBF-47BE-AD7D-861BDBE6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99E92-ABAA-494D-AA7A-7CDEC642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7E0E5-BB46-4630-A554-3C5E4DF7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660C-0936-4414-B315-6569C1462D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8CFC-1F2E-40E3-9E26-5E124E952D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E39F-95C4-4C22-A3CE-5D137642F07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59E-AEF1-48B6-9725-164F0B82EB5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1061-4B05-4740-8369-17D9F599A2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6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0941-7667-42E5-B17F-46CF507033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1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6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7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C3C2-E093-4016-9D7A-BB3F5ED0BE8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2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2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3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0722-5EA2-4C6A-8D0A-E2E45651C92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Garamond"/>
              </a:rPr>
              <a:t>ПРАВИЛА ПРАВОПИС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71640" y="3573360"/>
            <a:ext cx="2205000" cy="23767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73080" cy="249084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028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Ненаголошені голосні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[</a:t>
            </a: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Е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],[</a:t>
            </a: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86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енаголошені голосні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],[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під час письма потрібно перевіряти наголосом . Щоб знат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яку букву (е чи и) писати в ненаголошеному складі кореня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треба змінити слово або добрати до нього спільнокореневе так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щоб ненаголошений голосний став наголошеним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невий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</a:t>
            </a: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ни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943560" y="1582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71640" y="3933720"/>
            <a:ext cx="1800360" cy="432000"/>
          </a:xfrm>
          <a:prstGeom prst="wedgeEllipseCallout">
            <a:avLst>
              <a:gd name="adj1" fmla="val -46208"/>
              <a:gd name="adj2" fmla="val 7647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1" lang="uk-UA" sz="24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ш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72360" y="3933720"/>
            <a:ext cx="1800000" cy="43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р</a:t>
            </a:r>
            <a:r>
              <a:rPr b="1" lang="uk-UA" sz="24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780000" y="4724280"/>
            <a:ext cx="1801800" cy="194472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Garamond"/>
              </a:rPr>
              <a:t>Запам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’</a:t>
            </a:r>
            <a:r>
              <a:rPr b="1" lang="uk-UA" sz="4400" spc="-1" strike="noStrike">
                <a:solidFill>
                  <a:srgbClr val="ff0000"/>
                </a:solidFill>
                <a:latin typeface="Garamond"/>
              </a:rPr>
              <a:t>ята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598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У багатьох словах ненаголошені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1" lang="uk-UA" sz="32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],[</a:t>
            </a:r>
            <a:r>
              <a:rPr b="1" lang="uk-UA" sz="32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не можна перевірити наголосом: </a:t>
            </a:r>
            <a:r>
              <a:rPr b="0" i="1" lang="uk-UA" sz="3200" spc="-1" strike="noStrike">
                <a:solidFill>
                  <a:srgbClr val="ff0000"/>
                </a:solidFill>
                <a:latin typeface="Garamond"/>
              </a:rPr>
              <a:t>бензин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,</a:t>
            </a:r>
            <a:r>
              <a:rPr b="0" i="1" lang="uk-UA" sz="3200" spc="-1" strike="noStrike">
                <a:solidFill>
                  <a:srgbClr val="ff0000"/>
                </a:solidFill>
                <a:latin typeface="Garamond"/>
              </a:rPr>
              <a:t> іспит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. </a:t>
            </a: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Написання таких слів перевіряй за орфографічним словником і запам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’</a:t>
            </a: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ятовуй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372360" y="3933720"/>
            <a:ext cx="244764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У коренів слів чергуються 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лосн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І -  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дім – до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бір – зб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лість – злос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кріп – кроп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І – Е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ній – іне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куліш – куле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леміш – леме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причіп – причеп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09680" y="19810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1763640" y="3429000"/>
            <a:ext cx="165600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47640" y="2708280"/>
            <a:ext cx="2089440" cy="720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79640" y="3645000"/>
            <a:ext cx="358920" cy="28872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789360"/>
            <a:ext cx="28872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Приголосн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Г – З – Ж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Ольга – Ользі – Ольж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дорога – дорозі – дорож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К – Ц – 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вік – у віці – віч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бік – на боці – боч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Х – С – Ш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посуха – у посусі – посуши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рух – у русі – руш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2579760" cy="212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8:30:37Z</dcterms:created>
  <dc:creator>Student</dc:creator>
  <dc:description/>
  <dc:language>en-US</dc:language>
  <cp:lastModifiedBy>Ігор</cp:lastModifiedBy>
  <dcterms:modified xsi:type="dcterms:W3CDTF">2005-11-28T12:06:59Z</dcterms:modified>
  <cp:revision>12</cp:revision>
  <dc:subject/>
  <dc:title>ПРАВИЛА ПРАВОПИСУ </dc:title>
</cp:coreProperties>
</file>