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9EE1-9BF1-4C46-AD9C-395CF44F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CF5F-EF77-4C19-807E-2524E65D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3B93-A06B-45EF-9B75-3DB36B31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B694-6709-41FE-A2D3-EA79DE9E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0C44-E773-47E0-8F23-39748DB4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0ECD-5B9B-45A5-B988-F63CF8A7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0AEA-BF9A-4946-A8E3-01EE26DC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5451-83A0-41E9-8836-B9522498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FA70-E4E2-47C1-B31D-01B6E10E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9815-A7E5-41DA-BDD2-E658262A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2B50-21DA-47C0-A5AE-A5B0CD4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9F2F-A8E5-4C22-A9A6-C08CC30D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799E-C993-4C87-AD8C-3B33917C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343A-03FB-4D1A-84C8-FAAD516D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EF35-9249-4E12-A808-A1BA567F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01D8-6571-4B1C-8D2D-E374A27C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F65F-E1B9-4F66-85C8-853C8CDE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8796-DDDC-4DE7-AB3A-00C93B6C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6CC5C-A519-464A-BA74-C833FF49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2D24-D626-409E-A191-858827A5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F348-116A-45D4-A172-966048F2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F487-8115-4163-8D24-0BEBC55A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4CD2-A916-40C9-AB27-529D7E26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1D9F-F29C-4F19-856E-80D4B76F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E6EB-9279-4F8F-9C12-EA614C75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4ACA-0CA6-4773-AD0D-7D203362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C2C7-CF81-4E56-9017-7E925BD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15EA-C3CD-4D0B-BC7B-3FF6FC41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24B3-93B2-483E-8774-BA77C424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5F9AD-89DE-4918-8296-61F8DEE0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820BD-B4FF-415E-9337-CEB75924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4C72C-3742-4D83-B46F-C6097248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D83BA-68EA-41C2-B2BF-E1D50B2C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9568-C231-4A2F-AFC0-95BDD1C0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AEE0-0C4A-4F93-A3C9-5C312B21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339D8-F2E4-4FFF-8AFF-E407018B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76356-8EB8-417B-B3BC-F227D32B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5CD8F-0E7D-4A6E-B5C3-A116974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F9318-5427-42A5-BDB1-4195F76A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C4DD-D2CC-41E2-B995-CF6A021F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B5D6-FFE1-4657-863B-140C2004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8BCDB-F504-4EDC-8132-F11EAC1A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DF90C-107C-4635-9CE2-BAA0C846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EC1EB-2DD9-4B6D-B644-6FD77D9C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7506-C069-4846-B696-C270293C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7A5FD-3B2E-45CF-AE56-8467719F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D566B-195C-48C6-9BD9-1B1FB043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7542C-40BB-4BFC-B8F9-32BA030D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D8C07-8873-4940-82A8-6CC04B1B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90BE4-BD3D-4FAE-BA0B-667CB0A0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60774-0B6D-4032-9A4F-670B6640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0278B-62B3-4165-B894-3E3713CC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41F11-20CE-446B-B9F0-5C346AD4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AB226-06C9-497D-A5DA-1CE10AD6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2B4D6-C769-42DD-BC4F-9BA443BF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3873-4E5E-46B9-BAAA-583853E4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E7630-2A90-44C7-B5D8-D3418013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798B5-A9C9-4305-A3C0-C07863D9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3DC64-EEC0-4B3B-B231-316460AA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1B8F7-9B9C-4F25-A64D-F291469A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B7972-398B-43C5-9C6D-2B797BC6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A18E2-EB90-4E16-A0DD-4BF7A512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7700E-61E5-4191-96D0-E659F6B8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7CE8C-736A-474C-B75D-5CBF6729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15746-FFD8-47DB-90E5-A05B0D6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DFC45-69B7-46A9-8B34-F7E93539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EBCB-F15D-4EE8-B613-E375E38F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76A47-7A16-469B-84C1-88B4DD57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3B65F-CA53-4C27-B70C-7E4279A0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4EE99-D9B5-449B-8640-824C3F97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13249-5730-4CB7-B955-E850583F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A9A53-3CE4-49E5-9EF5-68EAC9C4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7C6BC-D503-409F-8541-6CA33BFC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877CA-4C4D-46CC-8ED4-0448D877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2A9C7-A522-43A8-B1DD-0595DDA0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3D4EE-C594-4ABD-8445-3DE4A5C5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2516-83A6-47A2-802E-F8E42FC7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0514-A0B6-424A-8C03-61ECC87D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2D831-6BF4-4BEB-9983-963CF894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CC030-264A-4C89-A9EE-6FCEC5F9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80D38-EE39-4E7D-AD1A-BBA1CA0E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CCB12-F5A1-48CE-8D35-D40753BD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54F5F-029E-4A9A-BA91-6E0809A5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71E9F-2FBC-4EAD-A5DE-D80315C2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67B77-F773-4BE9-9D50-1BED4E0B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64F70-6148-4A41-94F8-14C1ACD7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0317F-F19E-4C23-B075-F4D076D8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C1C8F-B1AE-4079-886D-DA1F0D47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24AD-D26F-4D45-99A4-7F98219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C2CD9-CC39-4F32-9BDC-AD556763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752C2-ED3A-4196-87D3-897FA08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B8C6C-577F-471D-89D4-A96F3F5A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DE961-9940-45AC-80FA-6AD34DAD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C1020-35CF-4D85-8C54-F8C66DE6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D5C5A-FCD3-4C54-BDDB-6A76F590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CF33A-E73C-4972-BC16-56C4CA74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69D3-E986-4578-9EFF-324952198A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7714-0C52-4CFD-AE2C-D60F99111C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FCF4-CDD3-471A-8BC2-B4FC9426041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3D43-C8A9-4E8C-850E-301EAF824E1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EB7A-AE22-441D-9E64-584D4B231F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6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40A6-D7A8-4724-8FE6-92885C479D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1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6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7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3A4B-B401-417F-B8D2-5B1006C0E4C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2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2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3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E657-BCEB-4371-A354-489B2176CC5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Garamond"/>
              </a:rPr>
              <a:t>ПРАВИЛА ПРАВОПИС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71640" y="3573360"/>
            <a:ext cx="2205000" cy="23767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73080" cy="249084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028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Ненаголошені голосні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[</a:t>
            </a: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Е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],[</a:t>
            </a: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868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енаголошені голосні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],[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під час письма потрібно перевіряти наголосом . Щоб знат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яку букву (е чи и) писати в ненаголошеному складі кореня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треба змінити слово або добрати до нього спільнокореневе так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щоб ненаголошений голосний став наголошеним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0" lang="uk-UA" sz="32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невий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</a:t>
            </a:r>
            <a:r>
              <a:rPr b="0" lang="uk-UA" sz="32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ни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943560" y="1582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71640" y="3933720"/>
            <a:ext cx="1800360" cy="432000"/>
          </a:xfrm>
          <a:prstGeom prst="wedgeEllipseCallout">
            <a:avLst>
              <a:gd name="adj1" fmla="val -46208"/>
              <a:gd name="adj2" fmla="val 7647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1" lang="uk-UA" sz="24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ш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372360" y="3933720"/>
            <a:ext cx="1800000" cy="43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гр</a:t>
            </a:r>
            <a:r>
              <a:rPr b="1" lang="uk-UA" sz="24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780000" y="4724280"/>
            <a:ext cx="1801800" cy="194472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Garamond"/>
              </a:rPr>
              <a:t>Запам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’</a:t>
            </a:r>
            <a:r>
              <a:rPr b="1" lang="uk-UA" sz="4400" spc="-1" strike="noStrike">
                <a:solidFill>
                  <a:srgbClr val="ff0000"/>
                </a:solidFill>
                <a:latin typeface="Garamond"/>
              </a:rPr>
              <a:t>ята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598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У багатьох словах ненаголошені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1" lang="uk-UA" sz="32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],[</a:t>
            </a:r>
            <a:r>
              <a:rPr b="1" lang="uk-UA" sz="32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не можна перевірити наголосом: </a:t>
            </a:r>
            <a:r>
              <a:rPr b="0" i="1" lang="uk-UA" sz="3200" spc="-1" strike="noStrike">
                <a:solidFill>
                  <a:srgbClr val="ff0000"/>
                </a:solidFill>
                <a:latin typeface="Garamond"/>
              </a:rPr>
              <a:t>бензин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,</a:t>
            </a:r>
            <a:r>
              <a:rPr b="0" i="1" lang="uk-UA" sz="3200" spc="-1" strike="noStrike">
                <a:solidFill>
                  <a:srgbClr val="ff0000"/>
                </a:solidFill>
                <a:latin typeface="Garamond"/>
              </a:rPr>
              <a:t> іспит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. </a:t>
            </a: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Написання таких слів перевіряй за орфографічним словником і запам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’</a:t>
            </a:r>
            <a:r>
              <a:rPr b="0" lang="uk-UA" sz="3200" spc="-1" strike="noStrike">
                <a:solidFill>
                  <a:srgbClr val="ff0000"/>
                </a:solidFill>
                <a:latin typeface="Garamond"/>
              </a:rPr>
              <a:t>ятовуй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372360" y="3933720"/>
            <a:ext cx="244764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У коренів слів чергуються 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олосн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І -  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дім – до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збір – збо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злість – злост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кріп – кроп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І – Е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іній – іне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куліш – куле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леміш – леме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причіп – причеп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09680" y="198108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1763640" y="3429000"/>
            <a:ext cx="165600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47640" y="2708280"/>
            <a:ext cx="2089440" cy="720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79640" y="3645000"/>
            <a:ext cx="358920" cy="28872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3789360"/>
            <a:ext cx="28872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Приголосн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Г – З – Ж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Ольга – Ользі – Ольж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дорога – дорозі – дорож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К – Ц – 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вік – у віці – віч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бік – на боці – боч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Х – С – Ш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посуха – у посусі – посуши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рух – у русі – руш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6156360" y="2781360"/>
            <a:ext cx="2579760" cy="212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8:30:37Z</dcterms:created>
  <dc:creator>Student</dc:creator>
  <dc:description/>
  <dc:language>en-US</dc:language>
  <cp:lastModifiedBy>Ігор</cp:lastModifiedBy>
  <dcterms:modified xsi:type="dcterms:W3CDTF">2005-11-28T12:06:59Z</dcterms:modified>
  <cp:revision>12</cp:revision>
  <dc:subject/>
  <dc:title>ПРАВИЛА ПРАВОПИСУ </dc:title>
</cp:coreProperties>
</file>