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FF25-FEF9-4B93-BEEA-222E387D2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0C0B-2872-48C2-B2C0-0391AA5A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323D-5091-45FD-8138-491E7BA7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4868-3A6E-4ECF-B9A4-3B4AFF329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45F5-E8A4-4980-A0D7-6C41494D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442E-C0D6-4F6A-BE03-80AF9273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993C-F3B9-4FF3-8DC1-D2F94C9D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CCA8-674A-4A91-9AC4-4A8D81CE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1D12-D99A-4193-B1FB-F934147A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E386-7E6D-47AF-B386-7767DA1E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65AF-A4C6-45BA-ADF2-77B63978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53EF-BD7F-491B-97A9-D8BF74A8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2005-679C-4E96-AD19-8F59BEF9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7C71-33CC-4287-B1A1-5117AEDC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B978-4E3C-4F2F-986E-31BAD8E6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4AEF-9EA4-428C-A385-8FCE9EE1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B958-BFC4-4631-AE61-5473E773D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7234-AD9D-4799-91C3-BAA12A10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D86A-A79A-4D1C-8E8A-156BBFAF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A2E7-E97C-47A8-914C-5A604F0F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B74F-DD1B-4C59-8643-EC867841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E56E-6822-4753-B2D6-757E85D5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4E10-43FC-4F43-A25D-0338BF8B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9B2C-3EBA-4ADE-8604-9148D12D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6DE2-D10B-4B50-89F1-3F25918210A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1331-8C85-4721-9E73-BBB7652FC92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Исследование форм организации физкультурно-массовой работы в детском оздоровительном лагере</a:t>
            </a:r>
            <a:br>
              <a:rPr sz="3200"/>
            </a:b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(на примере туризма)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26920" y="3500280"/>
            <a:ext cx="749016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тудентки 420 групп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емичевой Юлии Александровн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учный руководитель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.п.н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гарков Алексей Александрович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64072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546120" y="270000"/>
            <a:ext cx="820260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Рекомендации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работа в лагере должна строиться с учётом ближних и дальних перспектив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актические занятия можно проводить как на местности так и в помещении, в зависимости от темы и погодных условий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занятия можно проводить с полным составом детей, по группам, индивидуально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теоретические и практические занятия должны проводиться с привлечением наглядных материалов, использованием новейших методик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еподаватель должен воспитывать у детей умения и навыки самостоятельного принятия решений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для проведения теоретических и практических занятий рекомендуется привлекать учителей-предметников, опытных судей, инструкторов, врачей, спасателей, спортсменов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рекомендуется все полученные теоретические навыки отрабатывать в однодневных, многодневных, категорийных и степенных походах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 целью выявления знаний, умений и навыков рекомендуется участие в районных, областных соревнованиях спортивного туризм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анная выпускная квалификационная работа направлена на изучение организации исследования форм организации физкультурно-массовой работы в детском оздоровительном лагере. Лагерь спортивного туризма позволяет раскрыть индивидуальные, психологические особенности детей. Учит их овладевать туристскими навыками, позволяющими свободно жить и ориентироваться в природе, найти правильное решение выхода из критической ситуац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ак же лагерь спортивного туризма позволяет успешно развиваться в коллективе каждому участнику, воспитывает творческую, самостоятельную, активную, ответственную личнос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уристские лагеря - эффективная форма обучения любому виду туризма. Возможности лагеря не ограничиваются только работой с новичками. Они позволяют успешно отрабатывать элементы сложной туристской техник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уристско-краеведческий лагерь, расположенный в пределах родного края (40-50 км от города), экономичен для государства и для семьи, что немаловажно при современных сложностях в финансировании системы образования (исключает значительные расходы на проезд участников и руководителей; создаёт возможность использования транспортных средств проводящей организации и родителей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Цель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исследовать формы  физкультурно-массовой работы  в детском  оздоровительном лагере на примере туриз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бъект исследования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формы организации физкультурно-массовой работ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едмет исследования: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ормы организации физкультурно-массовой работы в детском оздоровительном лагере на примере туриз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6600"/>
                </a:solidFill>
                <a:uFillTx/>
                <a:latin typeface="Arial"/>
              </a:rPr>
              <a:t>Гипотеза: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Есл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выявить особенности форм физкультурно-массовой работы в детском оздоровительном лагере на примере туризма,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то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можно будет организовать эффективное их использовани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Задачи исследования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учить литературу и другие источники информации по теме, исследова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явить и дать характеристику форм  организации  физкультурно-массовой  работы в детском оздоровительном лагере на примере туризма.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пределить наиболее эффективные формы физкультурно-массовой работы в детском оздоровительном лагере на примере туризм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ть рекомендации по использованию материалов работ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База практики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ский оздоровительный лагерь «Каскад» при районной станции юных турист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ГЛАВА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. ОРГАНИЗАЦИЯ СПОРТИВНОГО ТУРИЗМА В ОБРАЗОВАТЕЛЬНЫХ УЧРЕЖДЕНИЯХ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0620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рия развития спортивного туриз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ормы организации физкультурно-массовой работы в детском оздоровительном лагере (на примере туриз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ГЛАВА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. ПЕДАГОГИЧЕСКИЕ ОСНОВЫ ОРГАНИЗАЦИИ СПОРТИВНОГО ТУРИЗМА В ДЕТСКОМ ОЗДОРОВИТЕЛЬНОМ ЛАГЕРЕ</a:t>
            </a:r>
            <a:r>
              <a:rPr b="0" lang="ru-RU" sz="4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обенности организации спортивного туризма в детском оздоровительном лагер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арактеристика форм организации спортивного туризма в детском оздоровительном лагере и их эффективнос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Формы работы с детьми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. Туристские кружк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2. Туристские соревнования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3. Туристские слеты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4. Археологические экспедици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5. Туристические походы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6. Экскурси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7. Краеведческие конкурсы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8. Итоговые краеведческие игры по краткосрочным программам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9. Профильный туристский лагерь (водный поход, спортивное   ориентирование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0. Краеведческие викторины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1. Конкурсы: эмблем, художественной самодеятельности, поваров, «боевых листков», газет о походе и др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2. Конкурс художественной самодеятельности и туристской песн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8:21:33Z</dcterms:created>
  <dc:creator>USER</dc:creator>
  <dc:description/>
  <dc:language>en-US</dc:language>
  <cp:lastModifiedBy>Максим</cp:lastModifiedBy>
  <dcterms:modified xsi:type="dcterms:W3CDTF">2010-10-31T17:15:50Z</dcterms:modified>
  <cp:revision>5</cp:revision>
  <dc:subject/>
  <dc:title>Исследование форм организации физкультурно-массовой работы в детском оздоровительном лагере (на примере туризма)</dc:title>
</cp:coreProperties>
</file>