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52C5-7897-40EF-99AB-F529334A1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622B-AA58-44C3-B494-07C37808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77BB-3205-47CB-9FD6-59CEA3C49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2330-A00B-496B-9DF3-1801C682E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6683-D604-418B-A8C8-2F89CB78F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FA5C6-376C-46B6-8B37-5B2CB242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F505-2031-4686-8F8E-F7C6A591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3F61-A02A-470C-82EE-6B915202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3635-18E6-47E0-9D56-B5CB0CA0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D41C-3774-4AFE-85C4-455E55A3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39F1-5C9E-4FE7-9164-70D14353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4749-FB8B-41F6-9602-9773EDBB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FD72-DE84-4302-9638-BFE2961A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801B-E12D-40BD-81EC-16F407D9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4F1F-8A7A-4F05-852D-05386587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A1A1-2DAB-4FC1-9DB0-F633907EF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2C883-1BE2-4922-9EF1-1839C662E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42F7-5FFB-4380-B97E-F5170545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486E-7120-43F0-9B24-4CA5369E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D040-D397-450C-87C5-F8819E7F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2621-08F0-404B-9079-EA1F958C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CDE6-031B-43F0-A218-F16F6A93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7305-BC22-47C0-A3EB-689C2C6D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5AB9-31F4-4227-B373-C9061DFD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9abe9d"/>
                </a:gs>
                <a:gs pos="100000">
                  <a:srgbClr val="91b3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9abe9d"/>
                </a:gs>
                <a:gs pos="100000">
                  <a:srgbClr val="91b3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9abe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9abe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7500-840A-4916-898C-8525042FE63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e7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ce8a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77f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9abe9d"/>
                </a:gs>
                <a:gs pos="100000">
                  <a:srgbClr val="91b3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9abe9d"/>
                </a:gs>
                <a:gs pos="100000">
                  <a:srgbClr val="91b3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9abe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9abe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e7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ce8a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8DF3-5B59-4214-90DE-01A1707C44E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Исследование форм организации физкультурно-массовой работы в детском оздоровительном лагере</a:t>
            </a:r>
            <a:br>
              <a:rPr sz="3200"/>
            </a:b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(на примере туризма)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26920" y="3500280"/>
            <a:ext cx="749016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тудентки 420 групп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Демичевой Юлии Александровн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учный руководитель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.п.н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гарков Алексей Александрович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64072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546120" y="270000"/>
            <a:ext cx="820260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Arial"/>
              </a:rPr>
              <a:t>Рекомендации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42848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работа в лагере должна строиться с учётом ближних и дальних перспектив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рактические занятия можно проводить как на местности так и в помещении, в зависимости от темы и погодных условий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занятия можно проводить с полным составом детей, по группам, индивидуально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теоретические и практические занятия должны проводиться с привлечением наглядных материалов, использованием новейших методик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реподаватель должен воспитывать у детей умения и навыки самостоятельного принятия решений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для проведения теоретических и практических занятий рекомендуется привлекать учителей-предметников, опытных судей, инструкторов, врачей, спасателей, спортсменов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рекомендуется все полученные теоретические навыки отрабатывать в однодневных, многодневных, категорийных и степенных походах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 целью выявления знаний, умений и навыков рекомендуется участие в районных, областных соревнованиях спортивного туризма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анная выпускная квалификационная работа направлена на изучение организации исследования форм организации физкультурно-массовой работы в детском оздоровительном лагере. Лагерь спортивного туризма позволяет раскрыть индивидуальные, психологические особенности детей. Учит их овладевать туристскими навыками, позволяющими свободно жить и ориентироваться в природе, найти правильное решение выхода из критической ситуац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Так же лагерь спортивного туризма позволяет успешно развиваться в коллективе каждому участнику, воспитывает творческую, самостоятельную, активную, ответственную личност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Спасибо за внимание!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Arial"/>
              </a:rPr>
              <a:t>Актуальность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Туристские лагеря - эффективная форма обучения любому виду туризма. Возможности лагеря не ограничиваются только работой с новичками. Они позволяют успешно отрабатывать элементы сложной туристской техник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Туристско-краеведческий лагерь, расположенный в пределах родного края (40-50 км от города), экономичен для государства и для семьи, что немаловажно при современных сложностях в финансировании системы образования (исключает значительные расходы на проезд участников и руководителей; создаёт возможность использования транспортных средств проводящей организации и родителей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Цель: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исследовать формы  физкультурно-массовой работы  в детском  оздоровительном лагере на примере туриз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Объект исследования: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формы организации физкультурно-массовой работ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едмет исследования: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ормы организации физкультурно-массовой работы в детском оздоровительном лагере на примере туриз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336600"/>
                </a:solidFill>
                <a:uFillTx/>
                <a:latin typeface="Arial"/>
              </a:rPr>
              <a:t>Гипотеза: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Если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выявить особенности форм физкультурно-массовой работы в детском оздоровительном лагере на примере туризма, 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то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можно будет организовать эффективное их использовани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Arial"/>
              </a:rPr>
              <a:t>Задачи исследования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зучить литературу и другие источники информации по теме, исследовани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ыявить и дать характеристику форм  организации  физкультурно-массовой  работы в детском оздоровительном лагере на примере туризма.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пределить наиболее эффективные формы физкультурно-массовой работы в детском оздоровительном лагере на примере туризм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ать рекомендации по использованию материалов работы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Arial"/>
              </a:rPr>
              <a:t>База практики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тский оздоровительный лагерь «Каскад» при районной станции юных турист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ГЛАВА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. ОРГАНИЗАЦИЯ СПОРТИВНОГО ТУРИЗМА В ОБРАЗОВАТЕЛЬНЫХ УЧРЕЖДЕНИЯХ</a:t>
            </a: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06208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стория развития спортивного туриз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ормы организации физкультурно-массовой работы в детском оздоровительном лагере (на примере туриз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ГЛАВА 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II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. ПЕДАГОГИЧЕСКИЕ ОСНОВЫ ОРГАНИЗАЦИИ СПОРТИВНОГО ТУРИЗМА В ДЕТСКОМ ОЗДОРОВИТЕЛЬНОМ ЛАГЕРЕ</a:t>
            </a:r>
            <a:r>
              <a:rPr b="0" lang="ru-RU" sz="4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обенности организации спортивного туризма в детском оздоровительном лагер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арактеристика форм организации спортивного туризма в детском оздоровительном лагере и их эффективност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Arial"/>
              </a:rPr>
              <a:t>Формы работы с детьми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1. Туристские кружк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2. Туристские соревнования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3. Туристские слеты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4. Археологические экспедици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5. Туристические походы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6. Экскурси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7. Краеведческие конкурсы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8. Итоговые краеведческие игры по краткосрочным программам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9. Профильный туристский лагерь (водный поход, спортивное   ориентирование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10. Краеведческие викторины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11. Конкурсы: эмблем, художественной самодеятельности, поваров, «боевых листков», газет о походе и др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12. Конкурс художественной самодеятельности и туристской песни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08:21:33Z</dcterms:created>
  <dc:creator>USER</dc:creator>
  <dc:description/>
  <dc:language>en-US</dc:language>
  <cp:lastModifiedBy>Максим</cp:lastModifiedBy>
  <dcterms:modified xsi:type="dcterms:W3CDTF">2010-10-31T17:15:50Z</dcterms:modified>
  <cp:revision>5</cp:revision>
  <dc:subject/>
  <dc:title>Исследование форм организации физкультурно-массовой работы в детском оздоровительном лагере (на примере туризма)</dc:title>
</cp:coreProperties>
</file>