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F3F-FF6D-4898-B596-2620D441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E75-D5DC-4212-B567-3D0CBA43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E69-630B-4EDB-A9FD-1712DA51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84B-268A-44C5-BB5A-076A74B9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B54-129A-45F6-A70A-85811885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7C2-6F4B-46C8-8D80-531F80F1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CE6-CBB7-43FB-85D9-8B9B0355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393-EDE1-49DB-BBF2-2D602FFE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9CE3-02CE-4C98-98A7-26292DFD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5D0-381D-4495-8B98-6BD3E6C3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262-0026-49BD-A492-309CE618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043-BA36-4C7F-B35B-3C0074CA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5B3D-1227-4C29-83CE-CBAC93D2F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9960" y="8534520"/>
            <a:ext cx="9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49360" y="971640"/>
          <a:ext cx="6308640" cy="731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971640"/>
                    <a:ext cx="6308640" cy="73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565360" y="7812000"/>
            <a:ext cx="218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реднесуточная доля аудитории телеканала ТВН составляет 0,6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32440" y="344520"/>
            <a:ext cx="2482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56080" y="347760"/>
            <a:ext cx="394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ложение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реднесуточная доля аудитории телекан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4:46:41Z</dcterms:created>
  <dc:creator>Admin</dc:creator>
  <dc:description/>
  <dc:language>en-US</dc:language>
  <cp:lastModifiedBy>Admin</cp:lastModifiedBy>
  <dcterms:modified xsi:type="dcterms:W3CDTF">2009-05-24T14:53:53Z</dcterms:modified>
  <cp:revision>3</cp:revision>
  <dc:subject/>
  <dc:title>Слайд 1</dc:title>
</cp:coreProperties>
</file>