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D3ED-7DB2-4CDF-BEAE-01C48B320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FC72-CBDE-470B-A76F-FF73CCBB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59D4-1BD6-41FD-A5D7-7F747ADA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AE58-1F58-49FF-9A81-54A3EDF52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21A1-4EE7-49AA-A6CE-51052C1D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C91E-4684-49AB-98F3-FFD1977E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E145-590A-47FB-824D-86C79856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8B31-7D16-4156-8721-C6E583D3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AE94-DFA0-49F9-8BDD-F0D651C7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38C5-1A30-4D22-B9AE-3DD11A07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A38E-1519-40E3-8F9E-77FC6CED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0274-2493-4B29-96FF-F59106DA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90D8-3B3D-4BD5-9A97-D017D39A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C8ED-4DAF-44D5-B544-BCEB4D67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0F8C-67E0-491C-A189-38AD8861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C41C-7D15-4C80-838E-4B16029D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2DD4-E289-4E7E-A069-7F4D9AE92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5030-1FC1-4BAF-9E31-8C94C31A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DBDB-0215-4459-98A9-1637E16B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3D3C-2A71-48CA-94C4-4C6492AE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E59C-D102-4D28-B7E6-D0A37F06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D61C-CE4E-412E-B6B4-E270CA8E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9C86-D440-432C-AE02-FC48E34D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7394-5611-40B0-BA71-37F4289A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CECA-2987-46D9-AB63-A0B57060CE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ACFB-6F67-4363-A38F-40B69668AF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ОУ ВПО «ВОЛЖСКИЙ ГОСУДАРСТВЕННЫЙ ИНЖЕНЕРНО-ПЕДАГОГИЧЕСКИЙ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НИВЕРСИТЕТ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47640" y="2565000"/>
            <a:ext cx="70106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 И П Л О М Н Ы Й    П Р О Е К 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 тему: Стратегическое планирование в управлении коммунальным комплекс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932360" y="4292640"/>
            <a:ext cx="3960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УДЕНТ                      Д.С.Гусе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УКОВОДИТЕЛЬ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А.Н.Голубц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3348000" y="630864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ижний Новгород 201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Источниками финансир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редиты, выделяемые муниципальным образованиям на подготовку к зим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редства, составляющие 0,1% от восстановительной стоимости жилого фонда, и выделяемые отдельной строкой в бюджетах муниципальных образований для финансирования программы оснащения жилого фонда приборами учета тепловой энерги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редства, формирующиеся в жилищно-коммунальных организациях при оплате населением коммунальных услуг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Разработанные мероприятия позволяю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ократить затраты на содержание и эксплуатацию жиль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беспечить экономические интересы населения при переходе отрасли ЖКХ на безубыточный режим функционирова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беспечить надежное тепло и водоснабжение без расширения существующих энергоисточнико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пособствовать созданию экономического механизма стимулирующего процесс энергосбереж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лучшить финансово-хозяйственную деятельность предприятия, повысить прибыльность, увеличить рентабельность, снизить расход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8001000" cy="64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работка стратегического плана организации жилищно-коммунальной сферы на примере ООО «Жилсервис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80010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бъект исследования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щество с ограниченной ответственностью «Жилсервис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мет исследова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стратегическое планирование организаций жилищно-коммунальной сферы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68360" y="347760"/>
            <a:ext cx="518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Цель дипломного проект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549360"/>
            <a:ext cx="80010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Задачи дипломного проек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ссмотреть теоретические и методические основы стратегического планирования деятельности предприят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анализировать деятельность организации жилищно-коммунальной сферы на примере ООО «Жилсервис»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разить оценку воздействия факторов окружающей среды на деятельность предприят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ставить разработку стратегического плана предприятия с учетом влияния факторов внешней сред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сновать выбор стратегического плана предприятия с экономической точки зр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еоретическая значимос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оекта заключается в изучении основных аспектов стратегического планирования организаций жилищно-коммунальной сфе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актическая значимос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сследования состоит в том, что материалы исследования могут быть использованы в работе руководителя, менеджера предприят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Основные понятия и определения дипломного проек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тратегия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грированная модель действий, предназначенных для достижения целей предприятия. Содержанием стратегии служит набор правил принятия решений, используемый для определения основных направлений деятель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ратегическое планировани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- это одна из функций управления, которая представляет собой процесс выбора целей организации и путей их достиже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Этапы разработки стратегического планир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пределение миссии и целей организаци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нализ среды, включающий в себя сбор информации, анализ сильных и слабых сторон фирмы, а также ее потенциальных возможностей на основании имеющейся внешней и внутренней информаци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ыбор стратеги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еализация стратеги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ценка и контроль выполн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8001000" cy="9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Основные виды деятельности ООО «Жилсервис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правление многоквартирным домом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обретение коммунальных ресурс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ксплуатация инженерных систем здани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держание жилищного фонда и нежилых помеще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казание услуг населению по сбору средств за коммунальные услуг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казание услуг предприятиям по платежам и расчетам за коммунальные и другие услуги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ые виды хозяйственной и коммерческой деятельности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Предложения по повышению эффективности управления организации ООО «Жилсервис»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вершенствование структуры управле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ка информационной систем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стема постоянного повышения квалификации работник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ка системы подбора, обучения, оценки и перемещения руководящих кадр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та по созданию культуры организаци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работка стратегии развития организации на основе анализа ее сильных и слабых сторон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Мероприятия по внедрению энергосберегающих технологи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нение на системах теплоснабжения технологий стабилизационной обработки подпиточной вод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деление контурной и сетевой вод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нение пароструйных насос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становка предизолированных труб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нение индивидуальных тепловых пункт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нащение муниципального жилого фонда и организаций бюджетной сферы приборами учета и регулирования энергоресурсов и вод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9T06:34:18Z</dcterms:created>
  <dc:creator>DSGusev</dc:creator>
  <dc:description/>
  <dc:language>en-US</dc:language>
  <cp:lastModifiedBy>Ната</cp:lastModifiedBy>
  <dcterms:modified xsi:type="dcterms:W3CDTF">2010-06-26T09:22:46Z</dcterms:modified>
  <cp:revision>11</cp:revision>
  <dc:subject/>
  <dc:title>Слайд 1</dc:title>
</cp:coreProperties>
</file>