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647-7E32-4B92-9132-9C1539D3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A49-98EE-4BDC-A1E5-B2C58ED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78D-1E72-43B0-929C-CBCBC1BB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1D5-E0A0-4481-B3C9-B6AC3050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0A5-5B65-4D8F-A01D-BE3FEF7D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ED3-1DF4-4F3E-A7BC-8D5FFA0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32F-418B-4C12-8B2B-B490D20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CB93-659A-4C69-B98E-FEFADA17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60B-DEBE-4590-8FB4-FEFC684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8975-D757-48E8-BBE1-B396E438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9BC-1889-4BBF-A576-D190568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78E-0ED6-42CA-9CA3-1B77742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489D-4E8D-48BA-830B-DAECDA4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8F3-978F-42F0-B8AA-48F83FD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A1B-B5C3-466B-B7D3-755B489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177-6EE4-4561-9A3A-7AD26370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7470-C314-481C-9A24-6EDA80F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1C2-5660-4A3A-8D00-0BDF681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812-A2C3-4B3A-B4CB-8144CB1F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05E-C680-4900-B354-A6A696F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630-1754-466E-B0E2-DC791474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7B9-E6ED-474A-91E6-EFDD6E1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D7C-41E9-4C63-83A1-22F6AE9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E5F-4581-4567-A06A-E4283A0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Полилиния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8F10-A112-4E9F-90ED-15E86452BC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Полилиния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Полилиния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988-0703-44D6-BEB1-408C1B813E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ыпускная квалификационная работ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 тему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Управление активами предприятия (на примере Филиала «Башнефть – Янаул» ОАО АНК «Башнефть»)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д.э.н., профессор Галиаскаров Ф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Выполнила : Богданова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о итогам проведенного анализа предлагаются следующие рекомендаци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в целях улучшения финансового состояния на предприятии необходимо предусмотреть  увеличение скорости поступления денежных средств, для выполнения этого мероприятия необходимо не допускать появления просроченной дебиторской задолженности, добиваться своевременного погашения текущей дебиторской задолженности и получения предоплат, авансов от подрядчиков и поставщиков. Особое внимание следует обратить на оценку состояния внутреннего контроля за погашением долгов дебиторами в соответствии с установленными каждому из них срок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редприятию необходимо не допускать авансовых платежей или сократить их до минимума, что достигается  путем исключения условия предоплаты в заключаемых договорах на поставку ТМЦ и выполнение подрядных рабо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для оптимального использования имеющихся на предприятии ресурсов, которое позволит увеличить скорость оборачиваемости оборотных средств, необходимо уменьшать остатки запасов ТМЦ на складах, закупать только необходимые  и в нужном количестве, так как денежные средства с течением времени обесцениваю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 Методика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1 Методы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Методы управления 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3 Анализ лучших мировых практик в области управления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 Анализ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1 Краткая характеристика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Анализ финансового состояния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3 Оценка эффективности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 Пути совершенствования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1 Основные направления совершенствования управления дебиторской задолженност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2 Управление денежными средст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3 Пути улучшения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Список использованных источ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Актуальность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правление активами является важнейшим аспектом управления предприятием в целом, от которого зависит эффективность функционирования пред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условиях рынка изменились права предприятий в области управления активами, мера ответственности за качество (эффективность) их использования, т.к. под активами стали понимать авансированный в них капит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ился подход к пониманию проблемы. Под активами, как объектом купли-продажи в настоящее время понимаются не только части имущественного комплекса, но и предприятие целиком. А это требует комплексного, объективного подхода к их оцен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сширение законодательной базы дает возможность предприятиям эффективней использовать имущество, строить политику воспроизводства основных средст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Целью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данной работы является изучение основных проблем и методов управления активами, обзор мирового опыта по изучаемой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соответствии с выбранной целью поставлены следующие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боснование цели, задачи, критерии управления активами на основе использования миров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финансового состояния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эффективности использования активов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зработка рекомендаций по совершенствованию управления активами предприят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бъектом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следования является Филиал «Башнефть–Янаул» ОАО АНК «Башнеф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едметом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 служит система управления активами на предприя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ущность управления активами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Organization Chart 11"/>
          <p:cNvGrpSpPr/>
          <p:nvPr/>
        </p:nvGrpSpPr>
        <p:grpSpPr>
          <a:xfrm>
            <a:off x="469800" y="835920"/>
            <a:ext cx="8140680" cy="5445720"/>
            <a:chOff x="469800" y="835920"/>
            <a:chExt cx="8140680" cy="5445720"/>
          </a:xfrm>
        </p:grpSpPr>
        <p:cxnSp>
          <p:nvCxnSpPr>
            <p:cNvPr id="97" name="_s1028"/>
            <p:cNvCxnSpPr>
              <a:stCxn id="98" idx="2"/>
              <a:endCxn id="99" idx="3"/>
            </p:cNvCxnSpPr>
            <p:nvPr/>
          </p:nvCxnSpPr>
          <p:spPr>
            <a:xfrm rot="10800000">
              <a:off x="2466360" y="5058720"/>
              <a:ext cx="232560" cy="91512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0" name="_s1029"/>
            <p:cNvCxnSpPr>
              <a:stCxn id="99" idx="0"/>
              <a:endCxn id="101" idx="3"/>
            </p:cNvCxnSpPr>
            <p:nvPr/>
          </p:nvCxnSpPr>
          <p:spPr>
            <a:xfrm flipV="1" rot="16200000">
              <a:off x="2316240" y="3663720"/>
              <a:ext cx="473760" cy="70200"/>
            </a:xfrm>
            <a:prstGeom prst="bentConnector3">
              <a:avLst>
                <a:gd name="adj1" fmla="val 2410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104" idx="3"/>
            </p:cNvCxnSpPr>
            <p:nvPr/>
          </p:nvCxnSpPr>
          <p:spPr>
            <a:xfrm flipV="1" rot="16200000">
              <a:off x="6550200" y="3630960"/>
              <a:ext cx="572400" cy="3708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5" name="_s1031"/>
            <p:cNvCxnSpPr/>
            <p:nvPr/>
          </p:nvCxnSpPr>
          <p:spPr>
            <a:xfrm flipV="1" rot="16200000">
              <a:off x="4969440" y="365040"/>
              <a:ext cx="2094480" cy="3036240"/>
            </a:xfrm>
            <a:prstGeom prst="bentConnector3">
              <a:avLst>
                <a:gd name="adj1" fmla="val 6584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6" name="_s1032"/>
            <p:cNvCxnSpPr/>
            <p:nvPr/>
          </p:nvCxnSpPr>
          <p:spPr>
            <a:xfrm flipH="1" flipV="1" rot="5400000">
              <a:off x="2017080" y="510840"/>
              <a:ext cx="2081880" cy="2732400"/>
            </a:xfrm>
            <a:prstGeom prst="bentConnector3">
              <a:avLst>
                <a:gd name="adj1" fmla="val 6589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3092400" y="836640"/>
              <a:ext cx="2614680" cy="103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План управл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активам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84360" y="2851200"/>
              <a:ext cx="3733560" cy="61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уществующие актив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5540400" y="2824200"/>
              <a:ext cx="2614680" cy="53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овые актив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4932360" y="3935520"/>
              <a:ext cx="3678120" cy="1555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Оценка жизненного цик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ланирование и управле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оект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Стратегия эксплуатации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469800" y="3935520"/>
              <a:ext cx="4114800" cy="1123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Стратегия тех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родление срока служб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Модификация или заме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>
              <a:off x="2698920" y="5591160"/>
              <a:ext cx="4114800" cy="690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Возможности управления активам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7251840" y="5517720"/>
              <a:ext cx="1440" cy="358920"/>
            </a:xfrm>
            <a:prstGeom prst="line">
              <a:avLst/>
            </a:prstGeom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Линия 36"/>
          <p:cNvSpPr/>
          <p:nvPr/>
        </p:nvSpPr>
        <p:spPr>
          <a:xfrm>
            <a:off x="6804000" y="5877000"/>
            <a:ext cx="432000" cy="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Рентабельность активов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1525680" y="18162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162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Чистая прибыль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09680" y="1409760"/>
          <a:ext cx="83851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09760"/>
                    <a:ext cx="83851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инамика  стоимости внеоборотных и оборотных активов</a:t>
            </a:r>
            <a:br>
              <a:rPr sz="2000"/>
            </a:b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а 2006 – 2008гг., тыс. руб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Объект 4"/>
          <p:cNvGraphicFramePr/>
          <p:nvPr/>
        </p:nvGraphicFramePr>
        <p:xfrm>
          <a:off x="579600" y="1395360"/>
          <a:ext cx="793584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395360"/>
                    <a:ext cx="793584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Динамика дебиторской задолженности предприят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" name="Объект 4"/>
          <p:cNvGraphicFramePr/>
          <p:nvPr/>
        </p:nvGraphicFramePr>
        <p:xfrm>
          <a:off x="757080" y="1541520"/>
          <a:ext cx="780912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541520"/>
                    <a:ext cx="7809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20:13Z</dcterms:created>
  <dc:creator>Дина</dc:creator>
  <dc:description/>
  <dc:language>en-US</dc:language>
  <cp:lastModifiedBy>MORRIS</cp:lastModifiedBy>
  <dcterms:modified xsi:type="dcterms:W3CDTF">2010-07-13T10:46:59Z</dcterms:modified>
  <cp:revision>15</cp:revision>
  <dc:subject/>
  <dc:title>Богданова Наталья Владимировна  Выпускная квалификационная работа на тему:</dc:title>
</cp:coreProperties>
</file>