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2.xml.rels" ContentType="application/vnd.openxmlformats-package.relationships+xml"/>
  <Override PartName="/ppt/notesSlides/notesSlide8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2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5.jpeg" ContentType="image/jpeg"/>
  <Override PartName="/ppt/media/image18.wmf" ContentType="image/x-wmf"/>
  <Override PartName="/ppt/media/image2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65.png" ContentType="image/png"/>
  <Override PartName="/ppt/media/image48.png" ContentType="image/png"/>
  <Override PartName="/ppt/media/image58.png" ContentType="image/png"/>
  <Override PartName="/ppt/media/image19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62.png" ContentType="image/png"/>
  <Override PartName="/ppt/media/image23.wmf" ContentType="image/x-wmf"/>
  <Override PartName="/ppt/media/image25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1.png" ContentType="image/png"/>
  <Override PartName="/ppt/media/image27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166-1039-4D5B-9C60-02FD23CE3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rgar una calificación que indique el desempeño financiero y posibles riesgos que enfrenta en un mediano 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mostrar la solidez de IMFs a los bancos e inversionistas para la consecución de recursos en el mercado financiero y 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blecer indicadores y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ara un mejor conocimiento y administración más efectiva de las instit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C3E-CB2D-417A-AD98-1E60CE53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0CD-6C9A-4DA5-B6CF-479A519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C1304-72A2-4BCA-9893-944F31D7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EA8C2-1103-4380-87F2-4A74452E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9E6C3-1B2F-4A18-A716-61751D1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13F18-76D3-402C-8A60-F86ED8B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DC14C-49E3-4101-9C22-F6BB259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0950-0331-4B8E-A7C6-D28BD4E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60234-4928-4DB7-AAD3-95136099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9F0D0-5243-445D-85CE-4A68CCD5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FB31-BA72-42EA-A2F3-C0FC5A69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2AF2-3949-4E9A-AB1D-8478D2C5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E87-A41E-4D0D-9A7B-F062D1EA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7011-4A3F-4AC7-8E48-C4ABDF8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0D8E2-35AF-43C6-8C8A-452E4052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3FF4A-EC46-46BA-A7C4-00CB44B8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6CAD2-0257-4698-81AC-6F8ACFC0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C58B1-6EE9-43B2-966D-83E5E8D5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4AEB6-7F95-4D52-BA1C-354F249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FA132-95E3-460D-906B-328ED85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682BB-7116-49EB-9BDA-1E35BC2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18590-BFDA-4063-989F-D232C3B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63D48-4A6D-4AF2-B06A-BCF188B5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7FB-B688-4D4E-B0B3-B464B31F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4EC70-C689-4859-91DF-5D9C049D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9A39-FDB5-4D17-B158-70E7A1BE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0659-509B-4C94-95F2-2F743EA3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9698E-A79A-419E-B3B8-2F9651C2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6C3AD-82FF-449A-80E5-BA48B6B7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36DA8-77C4-41EF-BEB6-E859A4E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7C754-6C8E-425A-ADC5-3DE8BC0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59BD8-1724-4586-921D-142A6F61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9D4D-CFCD-455D-B5AE-CB94C2F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137CD-8DC8-44DC-8622-D1BE517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22DF-8A63-4775-A138-81373AA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3FFBE-EA6B-4E28-A8D5-CB74F40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0AB9-FFF3-4CC8-A087-73B5DC1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95F36-9E75-4A98-AD48-F4E68D3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B3A8-0146-4524-9AF9-1C7B2DA3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93389-0A6F-413A-9DDA-76A69DED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462A10-B10E-4262-A485-8E763B44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C41E6C-8312-430B-9FC6-75774C7B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B74140-E06B-4AA1-9B56-5083853E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B64-B637-4BD3-980E-6DD3F8A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597CF7-6778-4543-BD53-A2C4F540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D44A52-F724-4453-A996-BC922DC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7DAE0F-BC55-47A4-A3F7-3D830CA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D9FB2E-418F-49DB-BECA-C4C2821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F28C55-077D-4AB8-A969-DD51884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D257DC-A802-40A0-AAD7-83E7242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D83EB3-E309-4116-8AA7-E807962E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047B8B-17CF-495D-8021-C7C8C835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5E5A8F-B125-4A85-B944-60ABA2A7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9FABF-2379-48BB-AC99-0065C46A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B6C4-344B-4257-9F1D-AF51D354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F76961-0F24-49EF-B105-48F0C65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B89EA-62FE-4C54-B185-8934153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CB1B9A-1E04-4DF2-B594-20DA2A0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3F6D51-25EF-4105-9474-FEF7C60F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D0E6E9-DC63-4C91-B5B0-2DC8BAF6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5F6828-4BC6-4396-B5F2-14DEFE0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FDE37E-3B64-4E67-BF92-A2038626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CF825C-A1C2-47B7-BF13-E6A70C9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94517F-D6DD-4E7A-B4E8-0B9270F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39F154-64E6-4F3E-8534-B5B4E3EF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BF9D-6841-4D1A-A72A-BB7D530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6D5E9F-43C7-4800-9A75-0C81539B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16846-175F-42C1-AD85-3A74CA6F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3AD40-B13C-411D-B50F-BA0525E1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9931D-97BB-4B4D-90F1-68A2D38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5100A-F524-4A26-A64C-8B2893FD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D006E-F7B6-48C1-BDBC-54EDB0C5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B56FA-95CD-4767-9B84-408436C6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A1D68-6616-4E47-95FC-60C1204A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40DF9-2C8F-4EF6-9B6E-ADC7CA9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A9228-7362-4E16-825B-30FAE2B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50F-E364-4DC1-83A4-E0FA470A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60067-DE61-432B-9D50-FE37577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0ECF3-5221-4FCD-9A18-940B47AC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A8890-7B8D-43DB-A49B-E47E2545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AE6-494C-490F-B73A-6DD33C89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AAE0-141B-47C7-945A-D8D8700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BB6-5A14-4E44-9EE2-3F8CC00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1EE-3DF9-446C-B92D-AB3B78A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2962-2BF3-4C6A-BC55-CDE895C5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66E5-80C6-4EF5-ACF3-D5F2DA1F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156F-3E1F-4702-9D2E-7FAD4D1B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C19E-6E5A-40DA-83CB-9B7C42F7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FEC8-B433-4FF9-BF6F-75CEA928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0AFE-BCFD-40EE-A0A4-E970C72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2ED8-C9BB-40D6-A20F-D8A5214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3CF-5B1D-4CF6-9597-7BAB18C5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8D5B-07CF-47F6-A7A8-A4EB8310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555F-5176-4659-8245-660FA55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AFFE-05D3-481A-A4A8-CD3DF53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7F48-FE05-4852-A5EF-0369C65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EE1A-5B3E-4547-87BA-B7D44672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A6BB-B345-4C6A-81CF-98F62B9A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6E64-E5BA-4FE3-A661-B4809434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9580-EAC0-4DA8-BC08-B43D4AE8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C043-0430-4EC5-B02C-83BC52A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9E89-4D5F-497F-A2E0-3FDE97D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B9B-60BB-401B-9172-B687D01B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AB67-89DA-4597-BB0E-B40AFAA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18C4-55E8-467B-AD9D-FEAEA7D3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4C91-AC3A-460F-9861-1557ED97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008E-58AC-48F0-9A9B-25B44D42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63E2-43E2-4B01-A98C-D506859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1FD9-1B2E-4517-9042-E56A3CA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5F57-8C74-4E84-97BD-3F51361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3789-CDF1-4C7A-8136-CD70FF95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A878-AA6F-46AE-B38D-EA6E5817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ABCA-9F0B-4188-AB12-502091F4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54F-1A89-41BF-8BA8-22F3342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062B6-63E2-40B9-B0CC-D483FD9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36A3-4E71-4DD1-B7CC-915466A8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96486-5C6E-43B9-997D-1B9F2485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7240-FE09-489C-89AC-08B56EAE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968F-25A6-415F-BCD1-B05CD219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E9DF-40BC-423F-8F78-CC804A5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9D72-936C-4EA5-A817-250A226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E36D7-A91A-4CD1-BDF6-C026FA8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855E-B4B0-4D2C-9ECF-4E014956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8A1E-1115-42E2-B62F-94554AD3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FB0-B055-4CFE-B34E-E07F566A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F7AA-0E73-4568-868A-4EAE66BB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648A-2154-4F4B-B248-48D524D2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82C9-42CB-4081-82BD-37D1F4E6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1C04-495E-4A04-BBAA-3CB2367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ADE3-E021-4442-8A00-2352BAD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40A8-8BD6-44AE-B545-51AD1FF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8134-83DC-4BBE-8732-FFD6F95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78833-F7B3-4162-AA20-0D4DB98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3A6B-EBAD-493A-81E8-0529CD2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D1ADB-29E5-4E01-AD58-74EEA18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B6A-937A-4227-ABF6-52ACE17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13D88-9A02-4CDD-8AFA-9E47C916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9AD5-8A45-442C-B9A9-51694071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C4E95-4019-458C-BC78-5F6415EE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ADD5-A258-4AA0-8449-7F2EBA76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FD7B-C22D-4C31-8C11-2EB7439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72689-7C22-4434-835F-9C9F6207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C860-0ECA-49BD-8D9E-1F249FF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50BE-C01A-43EA-A8F7-550BBB7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8E92-8346-4311-A22E-3103DD3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8AD4D-A968-4DC2-BECF-324182A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A64-5F81-4580-A781-E50A1F8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07246-340D-4E54-92EE-8EF647A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09F18-FA2F-48B9-96AF-C77AE14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49A92-6E70-46E5-A803-13E3299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87946-14C8-4AF1-959E-2CE27F2A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30C3-2655-4B9E-B9D6-F38C3E72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CC05-D855-415A-88C8-F5BB1D9A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40F7-4058-4623-AD3D-7F0C4274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B14A-898F-4A4C-B0D1-8B6F850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6674-7E4A-48F4-8218-F59CEC17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7D76-40EA-46D2-A784-507937B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A0B-71A8-4F41-936F-5375E8C3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A591-9767-4FDF-AA2D-DBB0E0F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E215F-DF56-4BD8-9191-CA6F682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BE30D-959B-48B3-90F2-E801E1D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9EA2-091F-4B86-8CFE-5E25F39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540C-7283-469A-A498-F9C73C8F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D9B5-BD6B-4F8D-835A-2E5B4CA4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086AC-4D58-4D6C-8FD4-B3FB02F1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37988-3067-4ECE-B8AF-972F6AB1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6F297-B65C-43A9-9BB4-B68D9129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A031E-8546-47EB-8903-4E7495B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CA5-3180-49CE-B5BE-FC564199D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8FC1-FEBD-4F96-8A37-E107156076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499520" y="768240"/>
            <a:ext cx="1644480" cy="4510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342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2617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0" y="2438280"/>
            <a:ext cx="9144000" cy="304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D45-FFFB-493B-B2F6-75B0EB11E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BB10-C300-4841-BC7D-247D5D50A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564-28D9-484A-8B28-62EAA4B0480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BF0B-E0A6-4F00-902A-81938CFD7CE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64B9-300E-448D-BFF4-2FB7C234C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122-2985-4C63-8181-73851216D1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34E-6DFA-47B6-AC05-491AC6BAE31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16B7-D94D-48D6-8B34-9CA390479F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E8F1-E2A1-42D2-8A38-1A90B7FD0D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09F-C13F-457C-BCEF-8A49A50A39A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4CBB-4D15-4020-A564-8ED1DEFBFA1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F0D8-D2A7-4108-B82A-BB81BD1B73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2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2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2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2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2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2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2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2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2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2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2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4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2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2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2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2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2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2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2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2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2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ейтинговая оценка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деятельности коммерческих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бан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окладч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лаенков Евгений Павлович, ф 41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52ae"/>
                </a:solidFill>
                <a:latin typeface="Times New Roman"/>
              </a:rPr>
              <a:t>И ещё один вид рейтинг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38280" y="1295280"/>
            <a:ext cx="64515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Индивидуальные рейтинги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(присваиваются международным рейтинговым агентством «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itch IBCA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»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Индивидуальный рейтинг является индикатором воз­можности самого финансового посредника «погло­тить» ряд возникших в процессе его деятельности финансовых и банковских рисков. Основными инди­каторами, на базе которых эксперты рейтингового агентства принимают решение о присвоении соответ­ствующего рейтинга, являются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рибыльность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лнота, достоверность и оперативность баланса финансовой организации, включая уровень капитализа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наличие/отсутствие каких-либо льгот со стороны государственных или регулирующих органов или уч­реждений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качество менеджмента, включая степень прора­ботки стратегии, политики и тактики деятельности в статике, динамике и с элементами прогноз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оперативная внутренняя и внешняя среда осуще­ствления деятельност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следовательность, логичность управления капи­талом финансовой организации, в том числе его ди­версификация по географическим и функциональным направлениям деятельности финансового учреждения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з каких коэффициентов состоит математическая мод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достаточности капитала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ликвидности КБ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рентабельности Коэффициента качества активов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качества пассив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Процедура присвоения рейтинг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286000" y="1371600"/>
            <a:ext cx="6680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784440"/>
            <a:ext cx="6858000" cy="6665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апы типовой процедуры присвоения рейтинг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. Запрос на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2.  Формирование аналитической группы рейтинговым агентств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3.  Запрос у эмитента базового комплекта документов и информа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4.  Предоставление эмитентом базового комплекта документов (рейтинговой книги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5.  Проведение предварительного исследования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6.  Подготовка встречи с руководством эмитента. Дополнитель­ный перечень тем для обсужд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7.   Встреча аналитической группы с руководством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8.   Подготовка отчета аналитической группы для рейтингового комите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9.  Рассмотрение результатов анализа на рейтинговом комитете и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0.  Уведомление эмитента о рейтинге; согласование и определе­ние статуса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1.   Публикация рейтинга или инициализация процедуры апелля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2.  Наблюдение за рейтингом. Организация и проведение еже­годной встречи с эмитент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0" y="738000"/>
            <a:ext cx="6858000" cy="4940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9900"/>
                </a:solidFill>
                <a:latin typeface="Tahoma"/>
              </a:rPr>
              <a:t>При получении от эмитента запроса на присвоение рейтин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овое агентство формирует аналитическую группу, состоящую из аналитиков, обладающих знаниями в соответствующих областях биз­неса. В этой группе назначается ведущий аналитик, который руководит процессом и служит главным контактным лицом для эмит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очной официальной встречей группа анализирует финансовую отчетность за предшествующие периоды, прогнозы финансовых показателей и денежных потоков, документацию по сделкам, юридические заключения и прочие данные, которые имеют отношение к предме­ту. При этом рейтинговое агентство не осуществляет дополнительной аудиторской проверки предоставляемой эмитентом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Динамика суверенных рейтингов Росс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914400" y="923760"/>
            <a:ext cx="8229600" cy="593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Характеристики деятельности международных рейтинговых агентств в Росс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62320" y="3225960"/>
            <a:ext cx="6781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Классификация рейтингов агентства </a:t>
            </a:r>
            <a:r>
              <a:rPr b="0" i="1" lang="en-US" sz="3200" spc="-1" strike="noStrike">
                <a:solidFill>
                  <a:srgbClr val="990033"/>
                </a:solidFill>
                <a:latin typeface="Arial"/>
              </a:rPr>
              <a:t>Moody'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372600" cy="66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Tahoma"/>
              </a:rPr>
              <a:t>Шкала рейтингов агентства «Рус-Рейтинг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0" y="1219320"/>
          <a:ext cx="9372240" cy="6171840"/>
        </p:xfrm>
        <a:graphic>
          <a:graphicData uri="http://schemas.openxmlformats.org/drawingml/2006/table">
            <a:tbl>
              <a:tblPr/>
              <a:tblGrid>
                <a:gridCol w="1874160"/>
                <a:gridCol w="7498080"/>
              </a:tblGrid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авнительно высокая степень кредитоспособ­ности. Финансовое со­стояние оценивается как устойчивое и стабильное в среднесрочной перс­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едняя степень креди­тоспособности. Финансо­вое состояние оценивает­ся как удовлетворитель­ное и стабильное в крат­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езначительно ниже средней. Основные пока­затели финансового со­стояния оцениваются как удовлетворительные и ста­бильные в крат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иже средней. Ос­новные показатели финан­сового состояния оценива­ются как удовлетворитель­ные, но их стабиль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кая степень креди­тоспособности. Основные показатели финансового состояния оцениваются как близкие к удовлетво­рительным, но их стабиль­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допустимо низкая сте­пень кредитоспособности. Финансовое состояние оценивается как неудов­летворительное или близ­кое к удовлетворительно­му, но его стабильность со­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шая степень оценки кредитоспособности. Фи­нансовое состояние оце­нивается как стабильно неудовлетворительное (близкое к дефолту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йтинг аннулирован по требованию ба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Кредитный спрэд для каждого уровня рейтинга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RusRating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 в 2004 - 2007 г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tretch/>
        </p:blipFill>
        <p:spPr>
          <a:xfrm>
            <a:off x="2286000" y="1233360"/>
            <a:ext cx="6858000" cy="562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9907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Формирование в России рейтинговой систем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0" y="614880"/>
            <a:ext cx="9144000" cy="5796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иболе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звитым сектором рейтинговых продукт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является сектор банковских рейтингов. Это объясняется не только большей регламентированностью деятельности, но и относительной доступностью и прозрачностью отчетности кредитных учреждений, острым общественным интересом, порожденным возрастающим разнообразием предлагаемых банковских продуктов и услуг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временная банковская система Росси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одна из самых молодых. По сути дела, она насчитывает всего 15 лет. Поэтому практика рейтингования банков также относительно невелика. Естественно, первые рэнкинги были ориентированы на представление хотя бы какой-то инфор­мации для возникающего бизнеса и клиентов, которые привыкли до это­го иметь дело лишь с четырьмя государственными банками, когда проблемы выбора не существовало как таковой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опрос создания банковских рейтинг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иобрел актуальность к середине 1990-х гг., когда конкуренция между банками приобрела реальные очертания, а бизнесу потребовались четкие ориентиры при выборе обслуживающих банков. В 1995-1998 гг. рейтинговые услуги были представлены на рынке уже тремя-четырьмя агентствами. По­степенно на российском рынке стали появляться крупнейшие запад­ные компании, одна из них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успела открыть пред­ставительство в России, другая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mpson Bank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Wa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пыталась активно у нас работать, но после кризиса была поглощена крупной международной компанией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BCA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При этом неадекватность оценок во время кризиса в России и развивающихся странах стала одной из причин такого поглощ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Что такое кредитный рейтинг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30360" y="1523880"/>
            <a:ext cx="6535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62320" y="1193400"/>
            <a:ext cx="7010280" cy="570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самые распространенные и широко используемые. Они присваиваются всеми ведущими международными рейтинговыми агентств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мнение экспертов агентств относительно общей кредитоспособности заемщика или кредитоспособности заемщика в отношении конкретных долговых обязательств, основанное на анализе достаточно стандартизованных факто­ров рис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 бываю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госрочным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т­косрочны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по международной или по национальной шкал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ставляет собой информацию, которую инвесторы могут использовать при совершении операций с финансо­выми инструментами и ценными бумагами. Долго- и краткосрочные кредитные рейтинги присваиваются на суверенном, субсуверенном уровнях, а также финансовым и нефинансовым экономическим субъектам в национальной и иностранной валюта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анковские рейтинговые продукты в России до кризиса 1998г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рейтинговые продукты для бан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9080" cy="62485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2"/>
          <a:stretch/>
        </p:blipFill>
        <p:spPr>
          <a:xfrm>
            <a:off x="-26676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екоторые достижения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638440"/>
            <a:ext cx="7924680" cy="1739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том 2004г. британский журнал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Bank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опубликовал оче­редной рейтинг 1000 крупнейших банков мира. Банки в этом списке ранжированы по величине капитала. Американские и российские банки демонстрируют рост. Большинство новых участников списка - из России и США. И все это - несмотря на снижение темпов мирово­го экономическ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Заключение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Рейтинги стран, региональных и муниципальных образований, субъектов финансового сектора экономики, нефинансовых организаций и предприятий стали важным информационным средством установления и поддержания деловых отношений в рамках хозяйственной деятельности и регулирования делового общения. Многообразие субъектов  и отношений между ними потребовало создания комплекса понятных, достаточно прозрачных и общепризнанных шкал, который позволил бы оценить финансовую устойчивость институциональных единиц в статике, динамике и с элементами прогноза. Подходы к этой проблемы породили разнообразие методик рейтинговых оценок, которые представляют на рынок рейтинговые агентства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полнительная информация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6306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спределение банковских рейтинго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тория и прогноз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88920" y="1608120"/>
          <a:ext cx="89661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608120"/>
                    <a:ext cx="89661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 flipV="1">
            <a:off x="4800600" y="3200040"/>
            <a:ext cx="1676520" cy="126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181480" y="3632040"/>
            <a:ext cx="167652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5511960" y="4127400"/>
            <a:ext cx="167616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48320" y="2654280"/>
            <a:ext cx="20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огно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1849320"/>
            <a:ext cx="18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исло рейтинг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43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ейтинги российских банков сдерживаются структурными недостатками банковского сектор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436680" y="1498680"/>
          <a:ext cx="8423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98680"/>
                    <a:ext cx="8423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 flipV="1">
            <a:off x="7823160" y="2361960"/>
            <a:ext cx="622440" cy="1104840"/>
          </a:xfrm>
          <a:prstGeom prst="line">
            <a:avLst/>
          </a:prstGeom>
          <a:ln cap="rnd" w="22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924680" y="3886200"/>
            <a:ext cx="83844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674200" y="1892160"/>
            <a:ext cx="304560" cy="232416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69280" y="2514600"/>
            <a:ext cx="177840" cy="128268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озитивные факторы, влияющие на рейтинги банков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2050920"/>
            <a:ext cx="8229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кономический рост</a:t>
            </a:r>
            <a:r>
              <a:rPr b="1" lang="fr-FR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ост ВВП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3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3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гноз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6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8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а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4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ысокий потенциал роста банковской отрасли в силу низкого уровня финансового посредниче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Кредиты к ВВП в 2003 г.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21%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в Росс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29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ольше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44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Венгр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75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о Франц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cc0000"/>
              </a:buClr>
              <a:buSzPct val="15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сокий уровень экономических и отраслевых рисков делает российский банковский сектор одним из самых высокорисковых в мир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гативные факторы, влияющие на рейтинги банк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Концентрация экономики</a:t>
            </a:r>
            <a:r>
              <a:rPr b="1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Доминирующее положение Сбербанка</a:t>
            </a:r>
            <a:r>
              <a:rPr b="1" lang="fr-FR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6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частных депозитов и 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3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корпоративного кредитования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концентрация кредитны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Преобладание операций со связанными сторо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прозрачная структура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Большое число мелких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доля доходов от торг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определенная и непредсказуемая прав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8439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йтинг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ndard &amp; Poor’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оссийских финансовых институто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318960" y="1368360"/>
          <a:ext cx="8632800" cy="4837320"/>
        </p:xfrm>
        <a:graphic>
          <a:graphicData uri="http://schemas.openxmlformats.org/drawingml/2006/table">
            <a:tbl>
              <a:tblPr/>
              <a:tblGrid>
                <a:gridCol w="2576520"/>
                <a:gridCol w="1371600"/>
                <a:gridCol w="3111480"/>
                <a:gridCol w="15732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торг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пром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нты-Мансий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Москов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гутнефтегаз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Русский Стандар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CW 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связь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фа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пэк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М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ропейский Трастов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Петрокоммер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ьский Банк Реконструкции и Развит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Промышленн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Банк Санкт-Петербург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ессанс Капита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Союз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ДельтаКреди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эб-инвест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о-Сибир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ба Альянс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Кредит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"/>
          <p:cNvSpPr/>
          <p:nvPr/>
        </p:nvSpPr>
        <p:spPr>
          <a:xfrm>
            <a:off x="6006960" y="609480"/>
            <a:ext cx="31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а 1 сентября 2004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Кредитный рейтинг - это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430360" y="1447920"/>
            <a:ext cx="6713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1547280"/>
            <a:ext cx="6781680" cy="5336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ейтинг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комплексная оценка состояния анализируемого субъекта, которая дает возможность отнести его к некоторому классу или категории. Результаты исследова­ния деятельности экономических субъектов выражают­ся комбинацией символов, на базе которой осуществ­ляется определенная кластеризация, дающая возмож­ность проведения текущей и сравнительной оце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йтинги являю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остаточно значимой составляющей в области деловой информации - они необходимы как д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держания уровня делового до­вер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и в качестве индикатора перспективных на­правлений размещения финансовых ресурсов, вложения инвестиционных потенциал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 по своей сут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яет функци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образования достаточно больших объемов информации в мнения и рекомендации по принятию решения наиболее компактным образ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2286000"/>
            <a:ext cx="9144000" cy="360360"/>
            <a:chOff x="0" y="2286000"/>
            <a:chExt cx="9144000" cy="360360"/>
          </a:xfrm>
        </p:grpSpPr>
        <p:sp>
          <p:nvSpPr>
            <p:cNvPr id="1193" name=""/>
            <p:cNvSpPr/>
            <p:nvPr/>
          </p:nvSpPr>
          <p:spPr>
            <a:xfrm>
              <a:off x="0" y="2357280"/>
              <a:ext cx="9144000" cy="289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0" y="2286000"/>
              <a:ext cx="9144000" cy="73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304920" y="2819520"/>
            <a:ext cx="861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спользование кредитных рейтингов в деятельности коммерческого бан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Опыт АКБ «Союз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720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Банковские рейтинги и анализ финансового состояния бан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 Black"/>
              </a:rPr>
              <a:t>Круглый стол «Банковские рейтинги и анализ финансового состояния банка»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Моск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Торгово-промышленная палата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23 мая 2006 год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195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8" name="Souz_logo_gor" descr=""/>
          <p:cNvPicPr/>
          <p:nvPr/>
        </p:nvPicPr>
        <p:blipFill>
          <a:blip r:embed="rId1"/>
          <a:stretch/>
        </p:blipFill>
        <p:spPr>
          <a:xfrm>
            <a:off x="324000" y="76320"/>
            <a:ext cx="8534160" cy="220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200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524720" y="5734080"/>
            <a:ext cx="1357200" cy="61596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609480" y="1066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Кредитные рейтинги корпоративных заемщ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00720" y="22050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9480" y="5013360"/>
            <a:ext cx="82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о данным на 22.05.2006 кредитные рейтинги имели более 65 компаний, более 80 банков и финансовых организ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447920" y="1801800"/>
          <a:ext cx="6095880" cy="299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01800"/>
                    <a:ext cx="60958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10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1547640" cy="7016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1332000" y="2637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граниченное число заемщиков, получивших кредитные рейтинг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уальность кредитных рейтинг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и сопоставления оценок различных рейтинговых агент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ь сопоставления оценок по различным шкалам (национальным/международ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184464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52280" y="9810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пользование рейтингов при принятии решений об инвестиров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России кредитные рейтинги пока не стали инструментом для принятия инвестиционных реш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40360" y="4365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0" y="260280"/>
            <a:ext cx="9144000" cy="360360"/>
            <a:chOff x="0" y="260280"/>
            <a:chExt cx="9144000" cy="360360"/>
          </a:xfrm>
        </p:grpSpPr>
        <p:sp>
          <p:nvSpPr>
            <p:cNvPr id="1220" name=""/>
            <p:cNvSpPr/>
            <p:nvPr/>
          </p:nvSpPr>
          <p:spPr>
            <a:xfrm>
              <a:off x="0" y="331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0" y="260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258920" y="2421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озрачность методик оценки заемщик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бликация полных рейтинговых отче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дготовка качественной отраслевой информ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едоставление информации о всех присвоенных рейтинговых оценка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67280" y="155736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9079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еобходимая рейтинговая информац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аскрытие подобной информации будет способствовать большему доверию к рейтинговым оценк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40360" y="4149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29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403280" y="1197000"/>
            <a:ext cx="691380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Standard &amp; Poor`s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1 сентября 2005 года             ССС+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24 сентября 2003 года           ССС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2280" y="69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редитный рейтинг АКБ «Сою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0920" y="5661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Низкий уровень кредитного рейтинга ограничивает возможности для публичных заимствов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191628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39840" y="325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457200" y="2819520"/>
          <a:ext cx="7345080" cy="2608200"/>
        </p:xfrm>
        <a:graphic>
          <a:graphicData uri="http://schemas.openxmlformats.org/drawingml/2006/table">
            <a:tbl>
              <a:tblPr/>
              <a:tblGrid>
                <a:gridCol w="3672360"/>
                <a:gridCol w="3672720"/>
              </a:tblGrid>
              <a:tr h="26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зи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рочные связи с компаниями группы «Базовый Элемен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крепление рыночных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орошая структура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га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сокая концентрация размещаемых и привлекаемых сред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изкий уровень капитал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большая клиентск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меренная прибы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476280"/>
            <a:ext cx="9144000" cy="360360"/>
            <a:chOff x="0" y="476280"/>
            <a:chExt cx="9144000" cy="360360"/>
          </a:xfrm>
        </p:grpSpPr>
        <p:sp>
          <p:nvSpPr>
            <p:cNvPr id="1239" name=""/>
            <p:cNvSpPr/>
            <p:nvPr/>
          </p:nvSpPr>
          <p:spPr>
            <a:xfrm>
              <a:off x="0" y="547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476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7197840" y="5705640"/>
            <a:ext cx="1755720" cy="7952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324000" y="1052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3399"/>
                </a:solidFill>
                <a:uFillTx/>
                <a:latin typeface="Arial"/>
              </a:rPr>
              <a:t>Типичная схема сделки: опыт Банка СОЮЗ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03880" y="2363760"/>
            <a:ext cx="1374840" cy="581400"/>
            <a:chOff x="5303880" y="2363760"/>
            <a:chExt cx="1374840" cy="581400"/>
          </a:xfrm>
        </p:grpSpPr>
        <p:sp>
          <p:nvSpPr>
            <p:cNvPr id="1245" name=""/>
            <p:cNvSpPr/>
            <p:nvPr/>
          </p:nvSpPr>
          <p:spPr>
            <a:xfrm>
              <a:off x="5303880" y="2440080"/>
              <a:ext cx="1374840" cy="4762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27280" y="2363760"/>
              <a:ext cx="125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Менеджер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6880" y="3247920"/>
            <a:ext cx="2362320" cy="582840"/>
            <a:chOff x="326880" y="3247920"/>
            <a:chExt cx="2362320" cy="582840"/>
          </a:xfrm>
        </p:grpSpPr>
        <p:sp>
          <p:nvSpPr>
            <p:cNvPr id="1248" name=""/>
            <p:cNvSpPr/>
            <p:nvPr/>
          </p:nvSpPr>
          <p:spPr>
            <a:xfrm>
              <a:off x="326880" y="3316320"/>
              <a:ext cx="2362320" cy="51444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1400" y="3247920"/>
              <a:ext cx="22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-up Servicer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Запасной сервисный аг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207360" y="2033640"/>
            <a:ext cx="595800" cy="1104480"/>
            <a:chOff x="207360" y="2033640"/>
            <a:chExt cx="595800" cy="1104480"/>
          </a:xfrm>
        </p:grpSpPr>
        <p:sp>
          <p:nvSpPr>
            <p:cNvPr id="1251" name=""/>
            <p:cNvSpPr/>
            <p:nvPr/>
          </p:nvSpPr>
          <p:spPr>
            <a:xfrm rot="5400000">
              <a:off x="-25560" y="2271960"/>
              <a:ext cx="1067040" cy="5904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rot="16200000">
              <a:off x="-41400" y="2308320"/>
              <a:ext cx="10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ligo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лжник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708280" y="2095560"/>
            <a:ext cx="2743200" cy="1068840"/>
            <a:chOff x="2708280" y="2095560"/>
            <a:chExt cx="2743200" cy="1068840"/>
          </a:xfrm>
        </p:grpSpPr>
        <p:sp>
          <p:nvSpPr>
            <p:cNvPr id="1254" name=""/>
            <p:cNvSpPr/>
            <p:nvPr/>
          </p:nvSpPr>
          <p:spPr>
            <a:xfrm>
              <a:off x="3146400" y="2135160"/>
              <a:ext cx="1828800" cy="9900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08280" y="20955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V Purchaser/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su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окупатель/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Эмит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6480360" y="3727440"/>
            <a:ext cx="2210760" cy="676080"/>
            <a:chOff x="6480360" y="3727440"/>
            <a:chExt cx="2210760" cy="676080"/>
          </a:xfrm>
        </p:grpSpPr>
        <p:sp>
          <p:nvSpPr>
            <p:cNvPr id="1257" name=""/>
            <p:cNvSpPr/>
            <p:nvPr/>
          </p:nvSpPr>
          <p:spPr>
            <a:xfrm>
              <a:off x="6556320" y="3782880"/>
              <a:ext cx="2057400" cy="6094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80360" y="3727440"/>
              <a:ext cx="2210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Manag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Управляющий денежными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редствам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51520" y="2373480"/>
            <a:ext cx="1851120" cy="659880"/>
            <a:chOff x="6851520" y="2373480"/>
            <a:chExt cx="1851120" cy="659880"/>
          </a:xfrm>
        </p:grpSpPr>
        <p:sp>
          <p:nvSpPr>
            <p:cNvPr id="1260" name=""/>
            <p:cNvSpPr/>
            <p:nvPr/>
          </p:nvSpPr>
          <p:spPr>
            <a:xfrm>
              <a:off x="6927840" y="2373480"/>
              <a:ext cx="1676520" cy="62856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51520" y="2391120"/>
              <a:ext cx="18511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eholders</a:t>
              </a:r>
              <a:br>
                <a:rPr sz="15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ержатели долго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ценных бумаг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059600" y="1343160"/>
            <a:ext cx="1460160" cy="779400"/>
            <a:chOff x="7059600" y="1343160"/>
            <a:chExt cx="1460160" cy="779400"/>
          </a:xfrm>
        </p:grpSpPr>
        <p:sp>
          <p:nvSpPr>
            <p:cNvPr id="1263" name=""/>
            <p:cNvSpPr/>
            <p:nvPr/>
          </p:nvSpPr>
          <p:spPr>
            <a:xfrm>
              <a:off x="7059600" y="1411200"/>
              <a:ext cx="1430280" cy="70452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80120" y="1343160"/>
              <a:ext cx="1439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stee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верительный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обственник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859440" y="3095640"/>
            <a:ext cx="1764000" cy="581400"/>
            <a:chOff x="6859440" y="3095640"/>
            <a:chExt cx="1764000" cy="581400"/>
          </a:xfrm>
        </p:grpSpPr>
        <p:sp>
          <p:nvSpPr>
            <p:cNvPr id="1266" name=""/>
            <p:cNvSpPr/>
            <p:nvPr/>
          </p:nvSpPr>
          <p:spPr>
            <a:xfrm>
              <a:off x="6859440" y="3164040"/>
              <a:ext cx="1754280" cy="4572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89680" y="3095640"/>
              <a:ext cx="17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ying Agent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латежные агент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983120" y="2706840"/>
            <a:ext cx="30492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88080" y="2706840"/>
            <a:ext cx="22068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1041480" y="2085840"/>
            <a:ext cx="1600200" cy="1047960"/>
            <a:chOff x="1041480" y="2085840"/>
            <a:chExt cx="1600200" cy="1047960"/>
          </a:xfrm>
        </p:grpSpPr>
        <p:grpSp>
          <p:nvGrpSpPr>
            <p:cNvPr id="1271" name=""/>
            <p:cNvGrpSpPr/>
            <p:nvPr/>
          </p:nvGrpSpPr>
          <p:grpSpPr>
            <a:xfrm>
              <a:off x="1041480" y="2552400"/>
              <a:ext cx="1600200" cy="581400"/>
              <a:chOff x="1041480" y="2552400"/>
              <a:chExt cx="1600200" cy="581400"/>
            </a:xfrm>
          </p:grpSpPr>
          <p:sp>
            <p:nvSpPr>
              <p:cNvPr id="1272" name=""/>
              <p:cNvSpPr/>
              <p:nvPr/>
            </p:nvSpPr>
            <p:spPr>
              <a:xfrm>
                <a:off x="1041480" y="26301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96560" y="2552400"/>
                <a:ext cx="149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ice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Сервисный агент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1041480" y="2085840"/>
              <a:ext cx="1600200" cy="581400"/>
              <a:chOff x="1041480" y="2085840"/>
              <a:chExt cx="1600200" cy="581400"/>
            </a:xfrm>
          </p:grpSpPr>
          <p:sp>
            <p:nvSpPr>
              <p:cNvPr id="1275" name=""/>
              <p:cNvSpPr/>
              <p:nvPr/>
            </p:nvSpPr>
            <p:spPr>
              <a:xfrm>
                <a:off x="1041480" y="21729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193760" y="2085840"/>
                <a:ext cx="131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iginato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Оригинатор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7" name=""/>
          <p:cNvSpPr/>
          <p:nvPr/>
        </p:nvSpPr>
        <p:spPr>
          <a:xfrm>
            <a:off x="4366440" y="36590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6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55240" y="337356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764800" y="25351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61560" y="27162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774160" y="23256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019120" y="24368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62160" y="24559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19240" y="21416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7360" y="3621240"/>
            <a:ext cx="2606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08080" y="3938760"/>
            <a:ext cx="33526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to Loan Agreement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втокредиты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sset Sale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продажи активо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служива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forcement Services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казании услуг по взысканию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ack-up 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запасном сервис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17560" y="2414520"/>
            <a:ext cx="2286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746240" y="1792440"/>
            <a:ext cx="2305080" cy="342720"/>
            <a:chOff x="4746240" y="1792440"/>
            <a:chExt cx="2305080" cy="342720"/>
          </a:xfrm>
        </p:grpSpPr>
        <p:sp>
          <p:nvSpPr>
            <p:cNvPr id="1289" name=""/>
            <p:cNvSpPr/>
            <p:nvPr/>
          </p:nvSpPr>
          <p:spPr>
            <a:xfrm flipH="1">
              <a:off x="4746240" y="1792440"/>
              <a:ext cx="2305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46600" y="1792440"/>
              <a:ext cx="0" cy="34272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5752800" y="153504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 + 9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23920" y="3160800"/>
            <a:ext cx="37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0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7560" y="2163600"/>
            <a:ext cx="29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649600" y="255420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82920" y="3938760"/>
            <a:ext cx="3454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sh Management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управлении денежными средствам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ust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доверительной собственност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ass A, B, C Not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лговые ценные бумаги классов А, В, С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curity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еспече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ying Agency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платеж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718400" y="2125800"/>
            <a:ext cx="0" cy="22860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651040" y="27446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649600" y="29354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689200" y="3116160"/>
            <a:ext cx="838080" cy="466560"/>
            <a:chOff x="2689200" y="3116160"/>
            <a:chExt cx="838080" cy="466560"/>
          </a:xfrm>
        </p:grpSpPr>
        <p:sp>
          <p:nvSpPr>
            <p:cNvPr id="1300" name=""/>
            <p:cNvSpPr/>
            <p:nvPr/>
          </p:nvSpPr>
          <p:spPr>
            <a:xfrm>
              <a:off x="3527280" y="3116160"/>
              <a:ext cx="0" cy="45720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89200" y="3582720"/>
              <a:ext cx="838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108320" y="3135240"/>
            <a:ext cx="2438640" cy="771480"/>
            <a:chOff x="4108320" y="3135240"/>
            <a:chExt cx="2438640" cy="771480"/>
          </a:xfrm>
        </p:grpSpPr>
        <p:sp>
          <p:nvSpPr>
            <p:cNvPr id="1303" name=""/>
            <p:cNvSpPr/>
            <p:nvPr/>
          </p:nvSpPr>
          <p:spPr>
            <a:xfrm flipV="1">
              <a:off x="4108320" y="3135240"/>
              <a:ext cx="0" cy="76176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08320" y="3906720"/>
              <a:ext cx="243864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4687560" y="3125880"/>
            <a:ext cx="2173320" cy="237960"/>
            <a:chOff x="4687560" y="3125880"/>
            <a:chExt cx="2173320" cy="237960"/>
          </a:xfrm>
        </p:grpSpPr>
        <p:sp>
          <p:nvSpPr>
            <p:cNvPr id="1306" name=""/>
            <p:cNvSpPr/>
            <p:nvPr/>
          </p:nvSpPr>
          <p:spPr>
            <a:xfrm flipH="1">
              <a:off x="4687560" y="3363840"/>
              <a:ext cx="217332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689360" y="3125880"/>
              <a:ext cx="0" cy="22824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309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0" y="6561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0920" y="836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99"/>
                </a:solidFill>
                <a:uFillTx/>
                <a:latin typeface="Times New Roman"/>
              </a:rPr>
              <a:t>Параметры секьюритизации Банка СОЮ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228600" y="1295280"/>
          <a:ext cx="7620120" cy="5332680"/>
        </p:xfrm>
        <a:graphic>
          <a:graphicData uri="http://schemas.openxmlformats.org/drawingml/2006/table">
            <a:tbl>
              <a:tblPr/>
              <a:tblGrid>
                <a:gridCol w="2362320"/>
                <a:gridCol w="525780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Auto Loans Finance B.V. (Нидерланды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СОЮ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 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Русский Стандар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бума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-1, A-2, B, 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ыпус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0 000 долларов США, и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нот класса А-1 и А-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нот класса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нот класса 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автокреди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 3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азмещ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ля 2005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огаш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 2010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тинг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dy’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А-1: Ваа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2, С: без рейтин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В: В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а купо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1 и А-2: 1ml+175 б.п., верхняя граница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B: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C: банк выкупает самостоятель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онны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яц, выплата 10 числа каждого меся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торы и андерайтер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kovsky Narodny Ban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2"/>
          <a:stretch/>
        </p:blipFill>
        <p:spPr>
          <a:xfrm>
            <a:off x="299880" y="642960"/>
            <a:ext cx="85442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сять повышений за семь лет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Суверенный рейтинг России -результат взвешенности всех фактор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86000" y="0"/>
            <a:ext cx="6400800" cy="4572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 flipV="1">
            <a:off x="2286000" y="1218960"/>
            <a:ext cx="6629400" cy="6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057040" y="-914400"/>
            <a:ext cx="754380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Bodoni MT"/>
              </a:rPr>
              <a:t>Что даёт наличие рейтинга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30360" y="609480"/>
            <a:ext cx="6713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133720" y="0"/>
          <a:ext cx="7467480" cy="6978600"/>
        </p:xfrm>
        <a:graphic>
          <a:graphicData uri="http://schemas.openxmlformats.org/drawingml/2006/table">
            <a:tbl>
              <a:tblPr/>
              <a:tblGrid>
                <a:gridCol w="3524040"/>
                <a:gridCol w="394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Финансовому посред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инвесто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60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ий доступ на рынок капитал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тинга у субъекта финансового сектор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ьно часто на практике улучшает условия доступа на финансовые рынки за счет по­вышения доверия инвесторов и кредиторов к его долговым обя­зательствам. Это может приве­сти к снижению издержек фи­нансирования. Многие институ­циональные инвесторы не при­обретают долговых обяза­тельств у субъектов, не имею­щих рейтинга. В условиях рас­тущей глобализации рынков рей­тинги стали ориентирами, помо­гающими эмитентам размещать свои ценные бумаги во всем мире, расширяя рынок привле­чения капитала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тоимостью кре­дитных ресурс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посредник, имеющий кредитный рейтинг, получает более широ­кий выбор на рынках капитала. У него больше альтернатив в ис­точниках финансирования, чему банка, не имеющего рейтинга. Это дает возможность финансо­вым организациям выбирать наи­более эффективные формы за­имствования и оптимизировать его стоимость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инятия осознанного инвестиционно­го решения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­тинга у финансовой органи­зации позволяет инвестору оценить, приемлемо ли для него соотношение риск/до­ходность для данного вложе­ния, и сравнить с альтерна­тивным вариантом. Очевид­но, что при прочих равных соотношениях риска и доход­ности инвестор выберет фи­нансового посредника, име­ющего рейтинг ведущего международного рейтингово­го агентства;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открытость эми­тента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аличие кредитного рейтинга у бан­ка означает большую инфор­мационную прозрачность его деятельности. Это связано с тем, что банк при подготов­ке рейтингового заключения и в процессе процедуры под­держания рейтинга представ­ляет рейтинговому агентству больший объем информации, чем другие компании, и в большинстве случаев эта ин­формация становится откры­той для всех потенциальных инвесторо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2e2e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 и говорить, Российский рост впечатляет!!!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Но удастся ли сохранить в среднесрочной перспективе?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94489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Не исключено, что опасная «голландская болезнь» ещё даст знать о себ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долгосрочной перспективе на состояние экономики повлияет неблагоприятная демографическая ситуация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-152280" y="1523880"/>
            <a:ext cx="944856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фть и газ обеспечивают России профицит по внешнему платежному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лансу ..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-1143000" y="1490760"/>
            <a:ext cx="10591920" cy="64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880" y="-45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позицию нетто-кредит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... хотя существует риск увеличения внебюджетных обязательств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хиллесова пята России: институциональная слабость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его ждать после выборов 2008 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ложение: Некоторые показатели суверенного риск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52ae"/>
                </a:solidFill>
                <a:latin typeface="Arial"/>
              </a:rPr>
              <a:t>Как влияют кредитные рейтинги на выпуск долговых обязательств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62320" y="1295280"/>
            <a:ext cx="6781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62320" y="1249920"/>
            <a:ext cx="6781680" cy="509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выпуске долговых обязательств кредитный и прочие рейтин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нижа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имость заимствований, так как, с точки зрения инвесторов, риск по облигациям снижается с неопределенно высокого до зафиксированного на понятном для них уровн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ширя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руг потенциальных инвесторов за счет консервативных участников рынка капитала, имеющих ограничения на уровень риска по финансовым вло­жени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ств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осту известности компании и её долговых обязательств за счет распространения информации по каналам рейтингового агентств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емонстрир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мерения эмитента строить свои отношения с инвесторами на принципах информаци­онной открытости в соответствии с международными стандарт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Какие факторы способствуют росту рейтингов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оссийских банков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вень рейтингов российских банков по-прежнем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стает от уровня суверенного рейтинга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аспределение рейтингов банков России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захстана и Украин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редние рейтинги банков России 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ругих стран, относящихся к категории «ВВВ»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– основные рейтинговые факторы</a:t>
            </a:r>
            <a:br>
              <a:rPr sz="32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Экономический прогресс в России,</a:t>
            </a: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Казахстане и Украине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Тенденция роста совокупных внутренних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кредитов, в процентах к ВВП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Рост финансового посредничеств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Доходность активов банковской систем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оссии в сравнении со странами «групп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авных»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иды рейтингов, присваиваемые ведущими рейтинговыми агентств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09680" y="1721880"/>
            <a:ext cx="693432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ейтинги финансовой устойчивости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сваиваются агентствам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). 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. след. слай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е рейтинги отражают позицию агентства в от­ношении устойчивости и надежности финансовых посредников, исключая определенные внешние кре­дитные риски и факторы внешней поддержки. Поми­мо кредитных организаций, эти рейтинги могут при­меняться и к другим типам финансовых учреждений, а именно: международные банки развития, правитель­ственные финансовые учреждения и национальные финансовые институты развития. Данные рейтинги не рассматривают своевременность выполнения обязательств финансового учреждения, а отражают вероятность того, что банку потребуется помощь третьей сторо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Классифицированные ссуды, в % от совокупно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ссудной задолженности в банковской системе России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сновные рейтинговые фактор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Российские банки подвергаются рискам из-за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слабости системы банковского регулирования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и надзора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Доминирование банко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контролируемых государством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е на капита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3200" spc="-1" strike="noStrike">
                <a:solidFill>
                  <a:srgbClr val="660033"/>
                </a:solidFill>
                <a:latin typeface="Arial Black"/>
              </a:rPr>
              <a:t>Среднесрочные перспективы российских банков</a:t>
            </a:r>
            <a:br>
              <a:rPr sz="28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bd71"/>
                </a:solidFill>
                <a:latin typeface="Arial"/>
              </a:rPr>
              <a:t>Структурные сделки, отрейтингованные в 2006 г.</a:t>
            </a:r>
            <a:br>
              <a:rPr sz="24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имер трансграничной структуры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480" y="-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2007 г. ожидается рост рынка секьюритизации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524880" cy="682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-1143000"/>
            <a:ext cx="1036332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Рейтинги финансовой устойчивост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0" y="-228600"/>
          <a:ext cx="10363320" cy="8088480"/>
        </p:xfrm>
        <a:graphic>
          <a:graphicData uri="http://schemas.openxmlformats.org/drawingml/2006/table">
            <a:tbl>
              <a:tblPr/>
              <a:tblGrid>
                <a:gridCol w="3800520"/>
                <a:gridCol w="1379520"/>
                <a:gridCol w="518328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ласс рейтин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Рейтин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олкование рейтинга (степень устойчив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е вызывает сомнений, вне зависимости от внешних условий 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роков выполнения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 не вызывает сомнений, может измениться только при резком ухудшении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вызывает сомне­ний, сроки обеспечения плате­жеспособности по обязательствам зависят от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нижний 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сроки обеспечения платежеспособнос­ти зависят от внешних услов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но сроки обеспечения платежеспо­собности могут отличаться для краткосрочных и долгосрочных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 при благоприятных внешних услов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спекулятивный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озможно ухудш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достаточно высокой уязвимости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Финансовая стабильность пробле­матична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вызывает большие сомн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обеспече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высокая уязвимост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уязвим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Основные вилы рисков при анализе структурной сделк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655308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doni MT"/>
              </a:rPr>
              <a:t>Кредитный риск: Уровень дефолтных активов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лияние риска обесценения рубл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озврат по дефолтным активам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ые риски: Риск смеш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урктурные риски: Валютный и процентный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ран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ав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228240" y="1636560"/>
            <a:ext cx="8915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Более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30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 лет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опыта в области микрофинан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3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Отдел финансового управления</a:t>
            </a:r>
            <a:r>
              <a:rPr b="1" i="1" lang="es-CO" sz="31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lnSpc>
                <a:spcPct val="9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Автономный отдел, основной целью которого является финансовая оценка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(ACCION CAMEL)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мониторинг показателей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финансовые прогнозы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и другие аналитические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Goudy Old Style"/>
              </a:rPr>
              <a:t>ACCION </a:t>
            </a:r>
            <a:r>
              <a:rPr b="1" i="1" lang="es-CO" sz="4000" spc="-1" strike="noStrike">
                <a:solidFill>
                  <a:srgbClr val="ffffff"/>
                </a:solidFill>
                <a:latin typeface="Goudy Old Style"/>
              </a:rPr>
              <a:t>Internationa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5760" y="1270080"/>
            <a:ext cx="77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ервые буквы английских слов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66880" y="1542960"/>
            <a:ext cx="64771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статочность капитал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(качество актив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руковод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ход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управление ликвидностью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2360" y="77472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0" y="1676520"/>
            <a:ext cx="2590560" cy="3770280"/>
            <a:chOff x="0" y="1676520"/>
            <a:chExt cx="2590560" cy="3770280"/>
          </a:xfrm>
        </p:grpSpPr>
        <p:pic>
          <p:nvPicPr>
            <p:cNvPr id="1406" name="" descr=""/>
            <p:cNvPicPr/>
            <p:nvPr/>
          </p:nvPicPr>
          <p:blipFill>
            <a:blip r:embed="rId1"/>
            <a:stretch/>
          </p:blipFill>
          <p:spPr>
            <a:xfrm>
              <a:off x="14400" y="1694160"/>
              <a:ext cx="25761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0" y="1676520"/>
              <a:ext cx="2581200" cy="375768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86000" y="0"/>
            <a:ext cx="6858000" cy="609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86000" y="-63972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2286000" y="68580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52ae"/>
                </a:solidFill>
                <a:latin typeface="Tahoma"/>
              </a:rPr>
              <a:t>Виды рейтингов. продол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685800"/>
            <a:ext cx="6781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1299240"/>
            <a:ext cx="6858000" cy="5610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поддержки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веду­щими международными рейтинговыми компаниям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ейтинг поддержки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сваиваемый агентством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представляет собой оценку финансовой возможности субъекта (государства или организации), который готов оказать финансовую поддержку конкретному субъекту финансового сектора. Для этой цели аналитики агентства рассматривают уровень и динамику долгосрочного кредитного «поддерживающего» рейтинга в иностранной, а при необходимости и в национальной валюте. В соответствии с методикой анализа при присвоении рейтинга поддержки необходимо, чтобы поддерживающая сторона была достаточно устойчива и могла оказывать поддержку фи­нансовому учреждению до тех пор, пока оно не смо­жет самостоятельно отвечать по своим обязательствам. Но при этом не учитывается качество внутреннего кре­дита (это происходит при присвоении индивидуаль­ного рейтинг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633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Что это такое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182880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внутреннего контроля и финансовой оценки для микрофинансовых организац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убленный анализ всех сфер деятельност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рекомендациями для усовершенствования систем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1752480"/>
            <a:ext cx="9796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09480" y="1752480"/>
            <a:ext cx="180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7160" y="13716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2590920"/>
            <a:ext cx="187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2438280"/>
            <a:ext cx="220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традиционного инструмен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ым Резервным Банком СШ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05120" y="1752480"/>
            <a:ext cx="6120" cy="375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44792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143000" y="4495680"/>
            <a:ext cx="22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нд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атинская Амер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97280" y="1752480"/>
            <a:ext cx="468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5146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5740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инструмент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Ф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581280" y="1371600"/>
            <a:ext cx="1878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3 –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05320" y="449568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одит оценку только членов сет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71500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ача методолог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гентствам, осуществляющим надзор, и кредитным учреждени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48720" y="1766880"/>
            <a:ext cx="144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086600" y="2376360"/>
            <a:ext cx="22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ение использов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е рамок сети и Латинской Амер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248520" y="1371600"/>
            <a:ext cx="1306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9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67480" y="1371600"/>
            <a:ext cx="1224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19720" y="1752480"/>
            <a:ext cx="1440" cy="3326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5720" y="1752480"/>
            <a:ext cx="1440" cy="482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4920" y="380880"/>
            <a:ext cx="94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Garamond"/>
              </a:rPr>
              <a:t>История</a:t>
            </a:r>
            <a:r>
              <a:rPr b="1" lang="en-US" sz="4400" spc="-1" strike="noStrike">
                <a:solidFill>
                  <a:srgbClr val="996600"/>
                </a:solidFill>
                <a:latin typeface="Garamond"/>
              </a:rPr>
              <a:t>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578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бликация технического руководств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638680" y="1752480"/>
            <a:ext cx="504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114300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изучения рейтинга финансовых показателей и возможных рисков, с которыми сталкиваются МФО в среднесрочной перспектив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продемонстрировать финансовую надежность МФО банкам и потенциальным инвесторам языком общепринятых показателе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обеспечить высококачественной информацие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о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разработать индикаторы и эталонные показатели 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4920" y="1522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Для чего был создан</a:t>
            </a: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 ACCION CAME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44520" y="1676520"/>
            <a:ext cx="8891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ключев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ая определение того,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измер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стандар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упность необходимой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икатное отношение МФО к рейтинговой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1480" y="146160"/>
            <a:ext cx="7223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облемы в процессе создания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ер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0" y="1295280"/>
          <a:ext cx="9144000" cy="5904000"/>
        </p:xfrm>
        <a:graphic>
          <a:graphicData uri="http://schemas.openxmlformats.org/drawingml/2006/table">
            <a:tbl>
              <a:tblPr/>
              <a:tblGrid>
                <a:gridCol w="2057400"/>
                <a:gridCol w="2500200"/>
                <a:gridCol w="2605320"/>
                <a:gridCol w="1981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АДИЦИОНН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ЙТИНГОВ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 (“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CAMEL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ОВЕРШЕНСТ-ВОВА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направленност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лубленный анализ всех сфер работы МФ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ансы -слабые и сильные сторо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ее выявленные ри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цел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финансового состо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прогре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отношени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акой же как предыдущ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нагрузка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рабочих дней консультантов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ccecff"/>
                </a:solidFill>
                <a:latin typeface="Garamond"/>
              </a:rPr>
              <a:t>ACCION CAMEL: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Garamond"/>
              </a:rPr>
              <a:t>Целевой рын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89000" y="1530360"/>
            <a:ext cx="8955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я сторона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рческие ба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инвесторы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дитные организации второго уровня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ства надзора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ьный Банк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уперинтендантств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ФО, поддающиеся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 в процессе перехода в регулируемые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мые МФ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нки и финансовые компании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457200" y="1600200"/>
            <a:ext cx="8381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ьно разработан для микрофинан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казывает, что МФО могут соответствовать тем же стандартам, что и традиционные финансовые орга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ауди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индикатором оценки воздействия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иденциальность результа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11200" y="9036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Характеристики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904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9040" y="15256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52280" y="1219320"/>
            <a:ext cx="899172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и от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0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=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отно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енн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4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13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ачественных индикаторов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  5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ддержка количественных и качественных индик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Анализ тенденций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ериод два или три года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oudy Old Style"/>
              </a:rPr>
              <a:t>Характерис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10960" y="1219320"/>
            <a:ext cx="817596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Количественные индикаторы</a:t>
            </a:r>
            <a:r>
              <a:rPr b="0" i="1" lang="es-E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ство портфеля и финансовый анал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правки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жизнеспособности МФО как коммерческой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стандартизации анализа различных МФ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имальные параметры утверждаются на основе углубленного анализа МФО по всему ми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14200" y="1447920"/>
            <a:ext cx="89298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чественные индикаторы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ндикаторы, которые невозможно выразить в цифра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осредственное воздействие на финансовое положение и общее состояние МФ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Анализ основан на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вью с персоналом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ленами правления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ен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зор политики и процеду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7632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ccec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f52ae"/>
                </a:solidFill>
                <a:latin typeface="Times New Roman"/>
              </a:rPr>
              <a:t>След. вид рейтинг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62320" y="2099520"/>
            <a:ext cx="6781680" cy="3690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корпоративного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присваиваются международными рейтинговыми агентствам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90-х гг. прошлого столетия возрос интерес к корпоративному управлению у акционеров, менеджеров, директоров и иных заинтересованных финансовых посредников и нефинансовых экономических субъектов. Появилась потребность в независимых, сопоставимых в международном масштабе оценках для срав­нения практики корпоративного управления в различ­ных странах и институциональных единицах. Концепция рейтингов корпоративного управления нацелена на удовлетворение этой потребн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0" y="9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Когда проводить рейтинговую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оценку 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ACCION CAM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1295280"/>
            <a:ext cx="91440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иболее типичные примеры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енциальные инвестиции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д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 доноров или третьей стор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формация из НПО в регулируемую организац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ическая помощ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5" name=""/>
          <p:cNvGraphicFramePr/>
          <p:nvPr/>
        </p:nvGraphicFramePr>
        <p:xfrm>
          <a:off x="0" y="1295280"/>
          <a:ext cx="9144000" cy="7232760"/>
        </p:xfrm>
        <a:graphic>
          <a:graphicData uri="http://schemas.openxmlformats.org/drawingml/2006/table">
            <a:tbl>
              <a:tblPr/>
              <a:tblGrid>
                <a:gridCol w="4179960"/>
                <a:gridCol w="49640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капитал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достаточности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резер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ость увеличения уставного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чество активо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21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ск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убытков по займам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стема классификации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быльность долгосрочных акти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6" name=""/>
          <p:cNvSpPr/>
          <p:nvPr/>
        </p:nvSpPr>
        <p:spPr>
          <a:xfrm>
            <a:off x="0" y="763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7" name=""/>
          <p:cNvGraphicFramePr/>
          <p:nvPr/>
        </p:nvGraphicFramePr>
        <p:xfrm>
          <a:off x="0" y="1143000"/>
          <a:ext cx="9448920" cy="5811840"/>
        </p:xfrm>
        <a:graphic>
          <a:graphicData uri="http://schemas.openxmlformats.org/drawingml/2006/table">
            <a:tbl>
              <a:tblPr/>
              <a:tblGrid>
                <a:gridCol w="5241960"/>
                <a:gridCol w="42069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3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дры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сс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дит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ые систем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атегическое планирование и бюджет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ходы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4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капитала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онная эффективност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активов     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итика процентных ставок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8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9" name=""/>
          <p:cNvGraphicFramePr/>
          <p:nvPr/>
        </p:nvGraphicFramePr>
        <p:xfrm>
          <a:off x="0" y="1295280"/>
          <a:ext cx="9144000" cy="6323040"/>
        </p:xfrm>
        <a:graphic>
          <a:graphicData uri="http://schemas.openxmlformats.org/drawingml/2006/table">
            <a:tbl>
              <a:tblPr/>
              <a:tblGrid>
                <a:gridCol w="4578480"/>
                <a:gridCol w="45655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квидност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уктура обязательст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гноз денежных потоко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ликвидных активов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46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0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0" y="1479600"/>
            <a:ext cx="91440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85560" indent="-3855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доступа МФО к местным и международным рынкам капит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5240" indent="-331920">
              <a:lnSpc>
                <a:spcPct val="95000"/>
              </a:lnSpc>
              <a:spcAft>
                <a:spcPts val="1500"/>
              </a:spcAft>
              <a:buClr>
                <a:srgbClr val="cc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нижение рисков благодаря объективной оценк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изация переменных и индикаторов, используемых для оценк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за данных для анализа эволюции микрофинансовой индуст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9036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стижения инструмента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7920" y="2219400"/>
            <a:ext cx="78343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ahoma"/>
              </a:rPr>
              <a:t>Окончательное заключение..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 rot="5029800">
            <a:off x="3879720" y="-5492160"/>
            <a:ext cx="1511280" cy="9906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380880" y="1045440"/>
            <a:ext cx="8763120" cy="521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бода выбора в рыночной экономике должна подкрепляться уверенностью в на­дежности партнера. Для принятия решения недостаточно внутренних оценок и зачастую необходима оценка независимых экспертов. Такую роль в современном обществе игра­ет, в частности, система рейтингов. Показа­тели рейтинга в компактной и ёмкой форме характеризуют состояние и перспективные тенденции изменения финансовой стабиль­ности банка, играя роль индикаторов для принятия решений, установления и поддер­жания деловых отношений. Текущий уровень рейтинга и динамика его изменения служат сигналами для сохранения, расширения или свертывания взаимосвяз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2:58:16Z</dcterms:created>
  <dc:creator>Lynne Curran</dc:creator>
  <dc:description/>
  <dc:language>en-US</dc:language>
  <cp:lastModifiedBy>Недолукий</cp:lastModifiedBy>
  <dcterms:modified xsi:type="dcterms:W3CDTF">2008-05-11T18:32:48Z</dcterms:modified>
  <cp:revision>59</cp:revision>
  <dc:subject/>
  <dc:title>PowerPoint Presentation</dc:title>
</cp:coreProperties>
</file>