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wmf" ContentType="image/x-wmf"/>
  <Override PartName="/ppt/media/image9.wmf" ContentType="image/x-wmf"/>
  <Override PartName="/ppt/media/image14.png" ContentType="image/png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414-6CE2-45EF-91CF-DA724EC0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E4B5-8505-4148-8818-1EB8D6D1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EC5-BF56-4A84-8F04-D30A952C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497-4B9D-4BC9-8CDE-D64295D9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5AB0-89FB-4D0B-8FC4-439DFA34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ACD-0104-46E5-A0C0-043FA80C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E335-93F5-4236-8BC5-BC24FB3D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1E6-8364-497D-AFF8-C268F84D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886-627C-4597-AEFA-7545EB1B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BD4-46EF-4C95-8EA5-4B2A4062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6E30-B971-4A9B-B489-33830742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FDA-6874-4456-9DC9-C96DA83B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92d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C955-727C-441E-9DB3-C8D52E3355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835812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НИСТЕРСТВО ОБРАЗОВАНИЯ И НАУКИ РОССИЙСКОЙ ФЕДЕР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ДРАЛЬНОЕ АГЕНТСТВО ПО ОБРАЗОВАНИ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ОЕ УЧРЕЖДЕНИЕ ВЫСШЕГО ПРОФЕССИОНАЛЬНОГО ОБРАЗОВАН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ОССИЙСКИЙ ГОСУДАРСТВЕННЫЙ СОЦИАЛЬНЫЙ УНИВЕРСИТ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акультет социальной работы, педагогики и ювен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040" y="3429000"/>
            <a:ext cx="82152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ПУСКНАЯ КВАЛИФИКАЦИОНН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«Благотворительность как социальный феномен и ее возрождение в современной Росс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25756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Социально-культурная сущность благотвори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2928960" y="357120"/>
          <a:ext cx="594360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8960" y="357120"/>
                    <a:ext cx="59436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Object 5"/>
          <p:cNvGraphicFramePr/>
          <p:nvPr/>
        </p:nvGraphicFramePr>
        <p:xfrm>
          <a:off x="642960" y="4071960"/>
          <a:ext cx="7500960" cy="26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4071960"/>
                    <a:ext cx="7500960" cy="26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Мотивы оказания благотворительн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Object 1"/>
          <p:cNvGraphicFramePr/>
          <p:nvPr/>
        </p:nvGraphicFramePr>
        <p:xfrm>
          <a:off x="1071720" y="857160"/>
          <a:ext cx="6929280" cy="579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857160"/>
                    <a:ext cx="6929280" cy="579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Мотивы оказания благотворительной помощи</a:t>
            </a:r>
            <a:br>
              <a:rPr sz="4000"/>
            </a:b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(по данным социологических опросов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Диаграмма 3" descr=""/>
          <p:cNvPicPr/>
          <p:nvPr/>
        </p:nvPicPr>
        <p:blipFill>
          <a:blip r:embed="rId1"/>
          <a:stretch/>
        </p:blipFill>
        <p:spPr>
          <a:xfrm>
            <a:off x="208080" y="1420920"/>
            <a:ext cx="872784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Возможные направления и виды благотворительной помощ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Object 1"/>
          <p:cNvGraphicFramePr/>
          <p:nvPr/>
        </p:nvGraphicFramePr>
        <p:xfrm>
          <a:off x="571680" y="1571760"/>
          <a:ext cx="8001000" cy="26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571760"/>
                    <a:ext cx="8001000" cy="26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Object 4"/>
          <p:cNvGraphicFramePr/>
          <p:nvPr/>
        </p:nvGraphicFramePr>
        <p:xfrm>
          <a:off x="1103400" y="4429080"/>
          <a:ext cx="698184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3400" y="4429080"/>
                    <a:ext cx="69818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риоритетные направления благотворительной деятельности коммерческих предприя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Диаграмма 3" descr=""/>
          <p:cNvPicPr/>
          <p:nvPr/>
        </p:nvPicPr>
        <p:blipFill>
          <a:blip r:embed="rId1"/>
          <a:stretch/>
        </p:blipFill>
        <p:spPr>
          <a:xfrm>
            <a:off x="133200" y="1420920"/>
            <a:ext cx="880272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Формы благотворительной деятельности коммерческих организа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Диаграмма 2" descr=""/>
          <p:cNvPicPr/>
          <p:nvPr/>
        </p:nvPicPr>
        <p:blipFill>
          <a:blip r:embed="rId1"/>
          <a:stretch/>
        </p:blipFill>
        <p:spPr>
          <a:xfrm>
            <a:off x="353880" y="1279440"/>
            <a:ext cx="858204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Object 5"/>
          <p:cNvGraphicFramePr/>
          <p:nvPr/>
        </p:nvGraphicFramePr>
        <p:xfrm>
          <a:off x="0" y="571680"/>
          <a:ext cx="8916840" cy="59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71680"/>
                    <a:ext cx="891684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2.1. Анализ возрождения тенденций благотворительности на примере благотворительного фонда «Радуга Тарусская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1"/>
          <p:cNvGraphicFramePr/>
          <p:nvPr/>
        </p:nvGraphicFramePr>
        <p:xfrm>
          <a:off x="285840" y="1357200"/>
          <a:ext cx="857232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357200"/>
                    <a:ext cx="857232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0438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2.2. Оценка условий развития благотвори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3840" y="4857480"/>
            <a:ext cx="8643960" cy="17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ким образом, как показывает научное исследование, для эффективного развития благотворительности в стране существует несколько серьезных препятстви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лавные из них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благоприятная для благотворителей и благополучателей система налогооблож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доверчивое, часто негативное отношение к благотворительности и ее представителям со стороны российского обществ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Диаграмма 6" descr=""/>
          <p:cNvPicPr/>
          <p:nvPr/>
        </p:nvPicPr>
        <p:blipFill>
          <a:blip r:embed="rId1"/>
          <a:stretch/>
        </p:blipFill>
        <p:spPr>
          <a:xfrm>
            <a:off x="353880" y="1279440"/>
            <a:ext cx="83692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создания благоприятных условий для развития филантропии в России необходим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совершенствование законодательной и нормативной базы в сфере благотворительнос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введение благоприятного налогового режима для доноров и получателей благотворительных средст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обеспечение гарантий прав собственности и создание условий для развития предпринимательств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повышение открытости и прозрачности донорских структур для общества и в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формирование культуры благотворительности, этических стандартов, высокого профессионализма и ответственности донор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формирование позитивного отношения к филантропической деятельности и институтам филантроп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формирование системы государственного поощр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Объект исследования</a:t>
            </a:r>
            <a:r>
              <a:rPr b="0" i="1" lang="ru-RU" sz="4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благотворительность как социальный феном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3214440"/>
            <a:ext cx="82296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Предмет</a:t>
            </a: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зрождение благотворительности в современной 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2.3. Совершенствование законодательной баз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7 сентября 2007 года прошли слушания Общественной палаты РФ по новому законопроекту МЭРТа о некоммерческих организациях («О внесении изменений в некоторые законодательные акты Российской Федерации» (в части совершенствования налогообложения некоммерческих организаций, регулирования благотворительной деятельности и механизмов общественного контроля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части совершенствования налогообложения некоммерческих организаций и регулирования благотворительной деятельности, наиболее актуальными являютс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ложения по расширению льгот на доходы физических лиц, относящихся к социально-уязвимым категориям насел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ведение новых налоговых стимулов для физических лиц, участвующих в благотворительной деятельности, в том числе в формировании целевого капитала некоммерческих организац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полнения в Налоговый кодекс Российской Федерации, направленные на установление равных условий для некоммерческих организаций и государственных и муниципальных учреждений при налогообложении налогом на добавленную стоимость реализации социальных услуг, оплачиваемых за счет средств бюджет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оставление льгот по налогам на прибыль некоммерческих организаций, осуществляющих платные виды деятельности в социально-значимых сфера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становление правительства об эндаумент-фондах приводит в действие принятый ранее федеральный закон "О порядке формирования и использования целевого капитала некоммерческих организаций" и освобождает благополучателей от налогов с доходов, полученных от соответствующего инвестирова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стоящим подарком "третьему" сектору станет освобождение от НД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ще один хороший правовой сюрприз связан с конкурсом на получение президентских грант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2.4. Стимулирование благотвори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0040" y="1213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гласно статистическим  данным, необходимо стимулирование благотворительной деятельности по следующим параметрам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Диаграмма 3" descr=""/>
          <p:cNvPicPr/>
          <p:nvPr/>
        </p:nvPicPr>
        <p:blipFill>
          <a:blip r:embed="rId1"/>
          <a:stretch/>
        </p:blipFill>
        <p:spPr>
          <a:xfrm>
            <a:off x="353880" y="1994040"/>
            <a:ext cx="8485200" cy="45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208080" y="428760"/>
          <a:ext cx="8689680" cy="58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428760"/>
                    <a:ext cx="868968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285920"/>
            <a:ext cx="8472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ыла изучена история становления благотворительности в Росс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ыла изучена сущность понятия «благотворительность», мотивы оказания благотворительной помощи, направления и виды благотворительной помощи с поправкой на современные приоритеты жизн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 оценке условий развития благотворительности изучены мнения предпринимателей, поступки частных лиц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ыло изучено, как совершенствуется законодательная база на данный момент времен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ыли изучены возможности и способы стимулирования государством субъектов благотворительной деятель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цель исследования</a:t>
            </a:r>
            <a:r>
              <a:rPr b="0" lang="ru-RU" sz="4400" spc="-1" strike="noStrike">
                <a:solidFill>
                  <a:srgbClr val="0000cc"/>
                </a:solidFill>
                <a:latin typeface="Calibri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феномен благотворительной деятельности в благотворительном фонде «Радуга Тарусская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задачи</a:t>
            </a:r>
            <a:r>
              <a:rPr b="0" lang="ru-RU" sz="4400" spc="-1" strike="noStrike">
                <a:solidFill>
                  <a:srgbClr val="0000cc"/>
                </a:solidFill>
                <a:latin typeface="Calibri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смотреть благотворительность как социальный феномен и выявить его историко-культурные предпосылки и духовно-нравственную основ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характеризовать виды, формы,  мотивы и сферы благотворительной деятельнос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анализировать современную ситуацию в сфере благотворительности; изучить возрождение благотворительных традиций на современном историческом этап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учить правовую базу, дающую возможность активизации благотворительной деятель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стематизировать теоретические и статистические данные, характеризующие современную ситуацию в сфере благотворитель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явить существующие проблемы в области благотворительности, проанализировать какие шаги предпринимаются для решения этих пробл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Теоретическая значимость работы</a:t>
            </a: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оит в изучении методических основ развития благотворительности на базе повышения мотивации коммерческих и филантропических организаций в осуществлении благотворительной деятельности и совершенствования государственного и общественного контроля за использованием благотворительных средст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Практическая значимость работы</a:t>
            </a: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ределяется возможностью их использования в процессе дальнейшего развития благотворительной деятельности в благотворительном фонде «Радуга Тарусская» и в других  благотворительных фондах. Положения, выводы и предложения дипломного исследования имеют практическое значение для муниципальных органов власти и органов власти Калужской области, для благотворительных организаций, а также для коммерческих организаций, осуществляющих филантропическую деятельность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Object 2"/>
          <p:cNvGraphicFramePr/>
          <p:nvPr/>
        </p:nvGraphicFramePr>
        <p:xfrm>
          <a:off x="285840" y="714240"/>
          <a:ext cx="8397720" cy="41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714240"/>
                    <a:ext cx="839772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История становления благотворительности в 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1357200" y="1428840"/>
          <a:ext cx="6183360" cy="54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1428840"/>
                    <a:ext cx="618336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alibri"/>
              </a:rPr>
              <a:t>Социально-культурная сущность благотворите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Object 3"/>
          <p:cNvGraphicFramePr/>
          <p:nvPr/>
        </p:nvGraphicFramePr>
        <p:xfrm>
          <a:off x="857160" y="1428840"/>
          <a:ext cx="728676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428840"/>
                    <a:ext cx="728676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7:17:40Z</dcterms:created>
  <dc:creator>Aнюта</dc:creator>
  <dc:description/>
  <dc:language>en-US</dc:language>
  <cp:lastModifiedBy>Aнюта</cp:lastModifiedBy>
  <dcterms:modified xsi:type="dcterms:W3CDTF">2008-03-19T13:02:37Z</dcterms:modified>
  <cp:revision>50</cp:revision>
  <dc:subject/>
  <dc:title>МИНИСТЕРСТВО ОБРАЗОВАНИЯ И НАУКИ РОССИЙСКОЙ ФЕДЕРАЦИИ ФЕДРАЛЬНОЕ АГЕНТСТВО ПО ОБРАЗОВАНИЮ ГОСУДАРСТВЕННОЕ УЧРЕЖДЕНИЕ ВЫСШЕГО ПРОФЕССИОНАЛЬНОГО ОБРАЗОВАНИЯ РОССИЙСКИЙ ГОСУДАРСТВЕННЫЙ СОЦИАЛЬНЫЙ УНИВЕРСИТЕТ Факультет социальной работы, педагогики и ювенологии</dc:title>
</cp:coreProperties>
</file>