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946-0EE5-4DD1-965B-D4251A11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1AC-FD0E-4097-A605-DF28785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FDA-4D65-4BFD-BF49-9C4111B1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DF3-A3B6-43EF-9AA6-7B6CCF11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F04A-671D-42A1-A4A7-0CCB41FA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D0E-6106-47E9-B441-8447880B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77E3-9972-4109-91C4-0C7BB6DD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CED-3176-45BA-8C18-5FD9F41E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6846-6C9F-4EA7-AFEB-F29CAE11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F36D-3C90-469F-A030-C45BC961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0BC-D79F-4144-9AAC-4546D59C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811-B841-45E4-8025-774777FF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3A5-10DB-4285-9F2C-7E8996F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7F2-DB8B-4D40-AC6D-136277C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CEE-600F-4447-B9CD-8B242ADD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B5DC-514A-44A6-A2D1-56DB7D14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87E0-9C23-400D-B316-60701C32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391D-BBCA-4C4F-A918-AB9DAC07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265A-8AF2-46BF-9874-DBA2016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F5DE-F8A4-4B12-9FBE-474FEAA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E19F-A704-44F3-82E3-84EAAD9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3350-3717-486B-BD71-1772655A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0FB-EC11-4FCF-B498-780CF6F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A87D-A26A-4A87-B088-583B3323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85A4-70FD-4E8E-9132-29261E5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8CBB-A8B6-4D7F-B90A-6740D57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5A48-20D7-4B4B-8490-280BBEA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AFF6-A62F-4D99-9430-2C3E9D0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EECF-3063-4C7E-A3E3-EAFC442B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22E8-2A6B-4D58-BB76-E11701ED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879F-3D0A-4EFD-8941-EEBFEA87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6CC1-6EB9-47D1-822A-5D32B84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AAC8-0474-4225-B3BB-F442A4A3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5EE-33E7-4E39-A20E-EE87F3B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34DD-69F1-48D6-9269-48B5E06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A28D-AA6D-426C-A1C4-5B847FA7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FB21-22D1-4180-B81B-3D46BFA5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19A5-D4EF-404E-95C3-02644DE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171D-46BD-4EEA-B367-D6213F6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C21A-44EF-4C69-99E5-9B82137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2E6A-11F8-4D2D-836B-27E0B3D4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FDDA-7C06-437D-97DD-D5341FB1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7A71-1673-4FC8-9ECB-3CD6EC6B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FDA3-8B5B-46A4-900F-E502456B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5F6-E6A2-4100-9968-3B1F3C7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4BA9-E80E-454F-92AC-EA4C08A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183A-A1B3-49C7-90BD-09390A6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3B16A-EDFB-49D5-8986-57FAD306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3DC9-D11C-4E84-9CDB-5B930F0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F8EA-47B5-4CED-B16C-F5434E6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7B37-E992-4EEF-90A7-D2990CB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69FD-F8F6-4DCD-88BC-DDDA754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D7C4-E56F-4D60-9EA6-318EE60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E12AB-D9DA-4193-B065-BED3841E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1818-D2AF-4BB6-B77F-488358F7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E5A-4AB1-4146-B17F-02635D2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84F5-DE7A-4B41-B849-5759A3DB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0DC9-0717-4F03-9E91-6935C6F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6024-FB4C-41D7-ADE1-38372F31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D5856-BBEF-4550-ACEE-2EBA42C5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EDA9-6931-4D4D-8F3E-5D7664D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DE6C-0CD9-4512-85C8-0615908E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D0B4-5FA7-43D4-9127-AAC0013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C7CEF-2A62-4C36-AD1A-32D1E6B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629AE-F9C1-4A4D-AF01-5985316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4DA3-41B2-45E1-92BE-A6AB9F2F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88C-C707-4C70-B257-E0F03CF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A350-B2EA-46FC-9495-15DA87D4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5CBA-91C5-4139-83D0-06D31A2C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E034B-F808-4FD2-B191-D2975EDA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E95E-829B-4B81-8DB4-48C41B95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28FD-C42B-4DF4-A1FB-896A256D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67BA-89B9-4507-8D42-16E2583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0C2A-A5C3-4C38-A352-E8E5BE26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E95F-76FD-45DF-B872-945D2715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1025-B953-44D4-8F95-FC588234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827D-3208-415B-B28F-064BE2B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943-52F1-4AFB-B777-A05EBCC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C3BB0-01CB-45A5-A810-FE8C4169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01367-3E01-4651-A60E-7287AED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82CE-E56E-412C-876E-4227C7E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3B52F-A9CB-4A88-B70D-ED863645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D604-B4D9-4C74-A802-A06C3C30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109-5877-4CD2-A558-885241D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F80-3254-4AFC-9C36-103173689E5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184D-1576-417B-9E59-47AB3BC0BF6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269-7EB6-49E6-90A2-D6183EAB9A8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718C-9BA6-4B89-A41E-F897EB9CF10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C67-5684-4B79-8950-46D37D34ED7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EB9-2BCD-45C7-84A4-BE6D386F3A5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7770-C4FD-4D73-AE5C-0DB101D141D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822240" y="1305000"/>
            <a:ext cx="7785360" cy="1305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995280" y="5661000"/>
            <a:ext cx="4954680" cy="9367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полнил: Омельченко П.Н.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тудент 1 курса специальности «Экология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333000"/>
            <a:ext cx="777240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344520" algn="just">
              <a:lnSpc>
                <a:spcPct val="8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100 лет назад отцы — основатели космонавтики вряд ли могли себе представить, что космические корабли будут выбрасывать на свалку после одного-единственного полета. Неудивительно, что первые проекты кораблей виделись многоразовыми и зачастую крылатыми. Долгое время — до самого начала пилотируемых полетов — они конкурировали на чертежных досках конструкторов с одноразовыми «Востоками» и «Меркуриями». Увы, большинство многоразовых кораблей так и остались проектами, а единственная система многократного применения, принятая в эксплуатацию (Space Shuttle), оказалась страшно дорогой и далеко не самой надежной. Почему так получилось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2" descr="http://galspace.spb.ru/index140.file/01.jpg"/>
          <p:cNvPicPr/>
          <p:nvPr/>
        </p:nvPicPr>
        <p:blipFill>
          <a:blip r:embed="rId1"/>
          <a:stretch/>
        </p:blipFill>
        <p:spPr>
          <a:xfrm>
            <a:off x="611280" y="260280"/>
            <a:ext cx="533376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39640" y="4149720"/>
          <a:ext cx="8136000" cy="2427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319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Зенгер" Так виделся запуск космического самолета немецким инжинерам в середине 1980-х годов. Первая ступень - самолет-разгонщик с прямоточными воздушнымо-реактивными двигателями. Вторая орбитальная ступень стартует на высоте более 30 км при скорости 6,8 Маха. стартовая масса системы - 340 т, из них 100 т водорода. Вторая ступень несет 65,5 т ракетного топлива. Экипаж - 2 пилота, 4 пассажира, груз - 2-3 тонны. первая ступень проектировалась как гиперзвуковой пассажирский самолет на 250 мест. Орбитальная допускала модификацию на 36 пассажир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16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920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Гермес", Франция/ЕКА, 1979-1994. Орбитальный самолет, запускаемый вертикально ракетой Ариан-5, садящийся горизонтально с боковым маневром до 1500 км. Стартовая масса - 700 т, орбитальная ступень - 10-20 т. Экипаж 3-4 человека, вывозимый груз - 3 т, возвращаемый 1,5 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39640" y="3860640"/>
          <a:ext cx="8425080" cy="276876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Клипер", Россия, с 2000 года. Разрабатываемый новый космический корабль с многоразовой кабиной для доставки экипажа и грузов на околоземную орбиту и орбитальную станцию. Вертикальный запуск ракетой "Союз-2", посадка горизонтальная либо парашютная. Экипаж - 5-6 человек, стартовая масса корабля - до 13 т, посадочная масса - до 8,8 т. Ожидаемый срок - 2015 го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898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Venture Star, США, 1993-2001. Проект одноступенчатой многоразовой транспортной космической системы с вертикальным стартом и горизонтальной посадкой. Работы были свернуты на стадии прототипа (проект Х-33) из-за многочисленных технических проблем. Основная - недостаточная прочность конструкции при жестких ограничениях на массу аппарата в цел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74" name="Рисунок 4" descr="http://galspace.spb.ru/index140.file/03.jpg"/>
          <p:cNvPicPr/>
          <p:nvPr/>
        </p:nvPicPr>
        <p:blipFill>
          <a:blip r:embed="rId1"/>
          <a:stretch/>
        </p:blipFill>
        <p:spPr>
          <a:xfrm>
            <a:off x="3780000" y="71280"/>
            <a:ext cx="5333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63640" y="115560"/>
            <a:ext cx="352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елноки нового поко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3789360"/>
          <a:ext cx="3780000" cy="30686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5238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Эскиз стартовой компоновки космического корабля "Клипер" (один из вариантов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64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Буран", СССР, 1976-? (не закрыт). Многоразовый космический корабль, аналог системы Space Shuttl. Вертикальный старт, горизонтальная посадка с боковым маневром 2000 км. Стартовая масса (с ракетой "Энергия") - 2375 т, орбитальная ступень 105 т. Экипаж - 10 человек, полезная нагрузка - 30 т. На снимке крупнейший в мире транспортный самолет Ан-225 "Мрия" перевозит Буран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77" name="Рисунок 7" descr="http://galspace.spb.ru/index140.file/06.jpg"/>
          <p:cNvPicPr/>
          <p:nvPr/>
        </p:nvPicPr>
        <p:blipFill>
          <a:blip r:embed="rId1"/>
          <a:stretch/>
        </p:blipFill>
        <p:spPr>
          <a:xfrm>
            <a:off x="0" y="0"/>
            <a:ext cx="5334120" cy="38098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6" descr="http://galspace.spb.ru/index140.file/05.jpg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3789360"/>
          <a:ext cx="3780000" cy="334980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281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МАКС, СССР/Россия, с 1985 года. Многоразовая система с воздушным стартом, посадка горизонтальная. Взлетная масса - 620 т, вторая ступень с топливным баком - 275 т, орбитальный самолет - 27 т. Экипаж - 2 человека, полезная нагрузка - до 8 т. По утверждению разработчиков (НПО Молния). МАКС - наиболее близкая к реализации проект многоразового корабл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32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631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Орион". США. Новый корабль для доставки экипажа и грузов на околоземную и окололунную орбиты и обратно. Многоразовым является только модуль экипажа с теплозащитой. Старт вертикальный, спуск управляемый с использованием подъемной силы корпуса, приземление на парашюте. Масса орбитальной ступени - 25 т, масса при посадке - 7,5 т. Экипаж 4-6 человек. Первый пилотируемый полет - 2014 год, первый полет к Луне - 2020 го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80" name="Рисунок 9" descr="http://galspace.spb.ru/index140.file/08.jpg"/>
          <p:cNvPicPr/>
          <p:nvPr/>
        </p:nvPicPr>
        <p:blipFill>
          <a:blip r:embed="rId1"/>
          <a:stretch/>
        </p:blipFill>
        <p:spPr>
          <a:xfrm>
            <a:off x="0" y="0"/>
            <a:ext cx="5334120" cy="380988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8" descr="http://galspace.spb.ru/index140.file/07.jpg"/>
          <p:cNvPicPr/>
          <p:nvPr/>
        </p:nvPicPr>
        <p:blipFill>
          <a:blip r:embed="rId2"/>
          <a:srcRect l="0" t="2438" r="0" b="4951"/>
          <a:stretch/>
        </p:blipFill>
        <p:spPr>
          <a:xfrm>
            <a:off x="3809880" y="3357720"/>
            <a:ext cx="5334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1eeff"/>
                </a:solidFill>
                <a:latin typeface="Consolas"/>
              </a:rPr>
              <a:t>Спасибо за внимание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6:42Z</dcterms:created>
  <dc:creator>1</dc:creator>
  <dc:description/>
  <dc:language>en-US</dc:language>
  <cp:lastModifiedBy>Ната</cp:lastModifiedBy>
  <dcterms:modified xsi:type="dcterms:W3CDTF">2011-04-22T10:21:37Z</dcterms:modified>
  <cp:revision>7</cp:revision>
  <dc:subject/>
  <dc:title>Космические корабли</dc:title>
</cp:coreProperties>
</file>