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599A-A41F-4240-B667-AD1253BBC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D259-B886-4E12-A208-2F3D92A4C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6473-6ACE-463B-AD29-157F4D6CF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C861-2EF6-4C23-95E4-FB67228B2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4DAB-A1EF-4993-98B0-5A13B0658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3989-FA9F-4D2A-8E46-5972B1084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22B9-6DD7-4FF1-B968-DB256BA64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6B5C-AE79-43A7-A3A4-72A7E632F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769F-B1B4-4DF2-B31F-9D0B7725B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B811-3882-400F-B53C-FD02D476DE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9AEE-07C2-4B4E-8A78-0B250B78B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E737-71EE-4EED-BB96-AB91C00D6E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F0E1-1467-4428-BEEB-DE5DA0F50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D00-EDDD-4331-9977-17D8BBCA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FB8-CC7E-441D-A462-1422087B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67C-07E7-47F8-9C09-9ECFD25A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EED-7858-42BD-B451-78C3978A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6730-238F-4FB5-A4DD-2B2A85CC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0CA0-EBDE-4EF3-BB95-DE400A61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B24E-89C5-43E9-AC56-8E0B3F62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ACB1-251F-44E4-B875-B61AE64E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0168-1FDC-4CBA-9260-537082E8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FF88-F003-486D-B95F-C2302206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3F22-EF8E-48B9-AC54-B5C59771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E28-E612-41B2-8D39-5B84CB1F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0D09-4FAF-4FEF-94E5-A99646E0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8519-5745-4398-A162-11154311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9D30-9E50-4392-9BE3-4FC2A0CC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D8D9-B963-4361-B8BC-D71801DE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27E3-ACF0-48B1-96A4-D25DD199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BC40-5807-4A9B-9BE1-3C48B741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5548-F37F-4AA9-B5C6-C131415B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C8D9-CE87-4E67-9D78-DB55FF1A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D288-C108-456E-89F5-4E061504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91E8-F64B-4BE5-9FA1-14117C73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EEB-21E0-4D19-9A3B-64AB9108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7C8C8-0C4D-4F02-B61B-52000DFC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232E-4876-482E-B3C3-86F5257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5F0E-30FF-4760-BBA2-8E7A0575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A58F5-AB31-48ED-80A1-ABC05EB6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92EE-60E2-4161-AE52-299882E5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2E1C-6647-42E6-B446-F04E1FA1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93720-3212-4422-B98F-CF085247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F046-33F4-40DB-A8D8-3DA4CDB8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55AC-2249-410B-B3CE-C78667D2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07FE-D79E-4408-B4C2-802A28F7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225-5319-4FDE-B16B-F909FD99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EC0D-9734-4658-A8A5-01C61B13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9E146-A5B2-4A32-8C64-963F1285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A618-5BFB-4C8A-8466-54EC237C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71AF1-FB7E-44BC-B726-3232D755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7EFC-6BFA-44FB-8090-B64D088C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B7CC2-0FC0-488E-AC22-C89957B8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0B19-E297-4B9B-9FA1-9E57B80D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901A-7D27-415C-81A8-9EB6EBE3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39CC4-AD1F-41C4-A9B8-33F25061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1D0FC-5668-4698-BDBB-5BE1BA4C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507-2F64-425C-B66C-EB6B96E7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FC2D-4323-45F4-AC8A-16A90311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717B2-AFAB-413B-BA52-D18B5500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B35F2-A9F6-4609-8296-F1D9BA5F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0170-B443-41DC-93C0-E05A32E6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B1978-F575-485F-8E88-13B6E906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CAF14-AB63-4465-BC14-029F2CA6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6AB31-4F5B-48F9-9EB1-976A5C1A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274B0-EE33-436E-B0AC-92B27177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D498B-CB45-483D-A857-E4DE3323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6AD3E-0AA0-4390-9E4A-A40E8275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DA7-2BBA-443F-9389-910066B8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D4FD9-51EF-49DD-A72A-D6C4441C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B3C2F-D991-4B32-90A5-9A0F4B27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3DF38-B249-4FA6-ACD7-470F51F6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B8473-A6B5-4522-B96F-0195471D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C1AAB-EBFE-4FBF-BF6A-9B3AED4F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B3C32-9049-48C1-8B0C-D6F44D0B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9F542-D40D-4240-8FF3-B8458934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D9DCF-0A00-4A05-9E01-005CD055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86956-6CEA-43E6-8432-E7FB188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368D3-7C20-4C86-9608-7BC834B1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1BE-DA85-46CC-B7F2-9115FE15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A467B-F09C-4429-84B5-3B0A3F75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CA16C-BACF-469F-B98E-36F697D9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43986-322D-4546-90A8-FDAAFD1D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E1E-0BD6-4934-8237-A2CC87F7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5FD-B766-4D5D-B724-2124744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15B8-680F-456C-A240-1EF5DAF6CC90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AC75-6E9A-468E-81D5-4118AC01106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2F72-D8CC-4985-AAF4-7DB8CA147055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1C6A-81C9-4171-A893-E171B91D31C1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2084-3253-461B-83F9-F59FDCDEA573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468E-1B4A-476D-95C5-65EF673F9328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534F-5221-472F-BDCC-B59EBCAB8E8F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CD05-3007-4234-8B40-C150A2A27D1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1C41-9699-4DC7-8D50-06104C307797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E012-8F17-4303-9ADF-04178FE5588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B782-30BB-41EB-BF9D-5128E6DE8EC4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FB87-283F-4484-B797-5C40B524A56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076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" descr=""/>
            <p:cNvPicPr/>
            <p:nvPr/>
          </p:nvPicPr>
          <p:blipFill>
            <a:blip r:embed="rId2"/>
            <a:stretch/>
          </p:blipFill>
          <p:spPr>
            <a:xfrm>
              <a:off x="1907640" y="0"/>
              <a:ext cx="72363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" descr=""/>
            <p:cNvPicPr/>
            <p:nvPr/>
          </p:nvPicPr>
          <p:blipFill>
            <a:blip r:embed="rId3"/>
            <a:stretch/>
          </p:blipFill>
          <p:spPr>
            <a:xfrm>
              <a:off x="3780000" y="41040"/>
              <a:ext cx="1428480" cy="137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9" name="Прямоугольник 10" descr=""/>
          <p:cNvPicPr/>
          <p:nvPr/>
        </p:nvPicPr>
        <p:blipFill>
          <a:blip r:embed="rId4"/>
          <a:stretch/>
        </p:blipFill>
        <p:spPr>
          <a:xfrm>
            <a:off x="682560" y="2054160"/>
            <a:ext cx="7871040" cy="23893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"/>
          <p:cNvSpPr/>
          <p:nvPr/>
        </p:nvSpPr>
        <p:spPr>
          <a:xfrm>
            <a:off x="4959360" y="5589720"/>
            <a:ext cx="406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Ковалев М.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менеджмент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ация: управление инвестициями и экономика строи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5"/>
          <p:cNvSpPr/>
          <p:nvPr/>
        </p:nvSpPr>
        <p:spPr>
          <a:xfrm>
            <a:off x="152280" y="5589720"/>
            <a:ext cx="454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дипломного проектирования: Бобыле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э.н., доц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7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0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81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казатели эффектив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3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047D-2BAD-488E-9460-4A6B0B0B6EF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Прямоугольник 5" descr=""/>
          <p:cNvPicPr/>
          <p:nvPr/>
        </p:nvPicPr>
        <p:blipFill>
          <a:blip r:embed="rId5"/>
          <a:stretch/>
        </p:blipFill>
        <p:spPr>
          <a:xfrm>
            <a:off x="1152360" y="2730600"/>
            <a:ext cx="7345440" cy="101916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7" descr=""/>
          <p:cNvPicPr/>
          <p:nvPr/>
        </p:nvPicPr>
        <p:blipFill>
          <a:blip r:embed="rId6"/>
          <a:stretch/>
        </p:blipFill>
        <p:spPr>
          <a:xfrm>
            <a:off x="950760" y="1542960"/>
            <a:ext cx="7851960" cy="792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15" descr=""/>
          <p:cNvPicPr/>
          <p:nvPr/>
        </p:nvPicPr>
        <p:blipFill>
          <a:blip r:embed="rId7"/>
          <a:stretch/>
        </p:blipFill>
        <p:spPr>
          <a:xfrm>
            <a:off x="957240" y="2097000"/>
            <a:ext cx="7845480" cy="7923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16" descr=""/>
          <p:cNvPicPr/>
          <p:nvPr/>
        </p:nvPicPr>
        <p:blipFill>
          <a:blip r:embed="rId8"/>
          <a:stretch/>
        </p:blipFill>
        <p:spPr>
          <a:xfrm>
            <a:off x="3054240" y="3597120"/>
            <a:ext cx="3017880" cy="101772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17" descr=""/>
          <p:cNvPicPr/>
          <p:nvPr/>
        </p:nvPicPr>
        <p:blipFill>
          <a:blip r:embed="rId9"/>
          <a:stretch/>
        </p:blipFill>
        <p:spPr>
          <a:xfrm>
            <a:off x="3352680" y="4395960"/>
            <a:ext cx="2835360" cy="10173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18" descr=""/>
          <p:cNvPicPr/>
          <p:nvPr/>
        </p:nvPicPr>
        <p:blipFill>
          <a:blip r:embed="rId10"/>
          <a:stretch/>
        </p:blipFill>
        <p:spPr>
          <a:xfrm>
            <a:off x="2938320" y="5078520"/>
            <a:ext cx="321336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92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95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Риски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7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8507-7DEB-4803-9436-0B178A3232E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08000" y="1628640"/>
          <a:ext cx="8928000" cy="5113440"/>
        </p:xfrm>
        <a:graphic>
          <a:graphicData uri="http://schemas.openxmlformats.org/drawingml/2006/table">
            <a:tbl>
              <a:tblPr/>
              <a:tblGrid>
                <a:gridCol w="1944720"/>
                <a:gridCol w="574560"/>
                <a:gridCol w="6408720"/>
              </a:tblGrid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а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наче-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ммент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мер компан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3%. Рассматриваемое предприятие довольно крупное, объемы производства в масштабах стра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нансовая струк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 5 %. Данный показатель зависит от коэффициента концентрации собственного капитала и от показателя текущей ликвид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изводственная и территориальная диверсифик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3%. Производственная диверсификация практически отсутствует (единственное направление деятельности – авиационный ремонт, образовательная деятельность влияет незначительно). Территориальная диверсификация средняя (предприятие ремонтирует авиационную технику для России и ближнего зарубежь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версификация клиен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4%. Чем меньше зависимость доходов компании от одного или нескольких крупнейших клиентов, тем при прочих равных условиях она стабильнее. Потребителями авиационного ремонта  являются практически все авиакомпании аэропорта Внуково и некоторые – других аэропортов, т. е. клиенты немногочисленны и весом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7304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нтабельность предприятия и прогнозируемость его до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4%. Рентабельность и стабильность доходов в данном бизнесе высокие, но зависят от политики госуда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чество управл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чество управления отражается на всех сферах существования компании, т. е. текущее состояние компании и перспективы ее развития во многом предопределены качеством управления. Данный фактор риска определяем как среднюю величину факторов, кроме факторов, зависящих от величины компании и прогнозируемости доход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чие собственные рис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 5 %.  Учитывает вероятность влияния на получение прогнозируемых доходов других специфических рисков, присущих оцениваемой компании. Принимая во внимание специфику ведения бизнеса в России, необходимо предусмотреть в ставке дисконта величину данного фактора на уровне середины диапазо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828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40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076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3" descr=""/>
            <p:cNvPicPr/>
            <p:nvPr/>
          </p:nvPicPr>
          <p:blipFill>
            <a:blip r:embed="rId2"/>
            <a:stretch/>
          </p:blipFill>
          <p:spPr>
            <a:xfrm>
              <a:off x="1907640" y="0"/>
              <a:ext cx="72363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4" descr=""/>
            <p:cNvPicPr/>
            <p:nvPr/>
          </p:nvPicPr>
          <p:blipFill>
            <a:blip r:embed="rId3"/>
            <a:stretch/>
          </p:blipFill>
          <p:spPr>
            <a:xfrm>
              <a:off x="3780000" y="41040"/>
              <a:ext cx="142848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98A2-9DF4-4F9C-8EDC-8C469ED35AA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Прямоугольник 2" descr=""/>
          <p:cNvPicPr/>
          <p:nvPr/>
        </p:nvPicPr>
        <p:blipFill>
          <a:blip r:embed="rId4"/>
          <a:stretch/>
        </p:blipFill>
        <p:spPr>
          <a:xfrm>
            <a:off x="1695600" y="2395440"/>
            <a:ext cx="559584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84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TextBox 7"/>
            <p:cNvGrpSpPr/>
            <p:nvPr/>
          </p:nvGrpSpPr>
          <p:grpSpPr>
            <a:xfrm>
              <a:off x="5338440" y="420480"/>
              <a:ext cx="3805560" cy="871920"/>
              <a:chOff x="5338440" y="420480"/>
              <a:chExt cx="3805560" cy="871920"/>
            </a:xfrm>
          </p:grpSpPr>
          <p:pic>
            <p:nvPicPr>
              <p:cNvPr id="287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5438520" y="47628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Характеристики дипломного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9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Прямоугольник 2"/>
          <p:cNvSpPr/>
          <p:nvPr/>
        </p:nvSpPr>
        <p:spPr>
          <a:xfrm>
            <a:off x="250920" y="1916280"/>
            <a:ext cx="866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проработан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ышение квалификации сотрудников силами предприятия – относительно новое направление деятельности хозяйствующих субъектов. В последние годы появилось много работ по этой теме, но единого подхода пока не проработано. Требуется дополнительный анализ и систематизация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336600" y="3359160"/>
            <a:ext cx="85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«Внуковский авиаремонтный завод №40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6"/>
          <p:cNvSpPr/>
          <p:nvPr/>
        </p:nvSpPr>
        <p:spPr>
          <a:xfrm>
            <a:off x="307800" y="3933720"/>
            <a:ext cx="85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деятельности предприятия за счет реконструкции нерентабельных и бесперспективных произво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8"/>
          <p:cNvSpPr/>
          <p:nvPr/>
        </p:nvSpPr>
        <p:spPr>
          <a:xfrm>
            <a:off x="336600" y="494172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ипломного проектир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циональной системы управления инвестиционным проектом с учетом перспектив развития управляемых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 расчет инвестиционной эффективности от предлагаемых мероприя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B1BA-6FE3-4189-9A32-5CC25AEDDE6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9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299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казатели эффектив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1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33E3-EAB5-4FD5-8D62-6557EF27B0E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Объект 4"/>
              <p:cNvSpPr txBox="1"/>
              <p:nvPr/>
            </p:nvSpPr>
            <p:spPr>
              <a:xfrm>
                <a:off x="3132000" y="2060640"/>
                <a:ext cx="3961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Прибыль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Затраты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Инвестиции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04" name="Схема 5" descr=""/>
          <p:cNvPicPr/>
          <p:nvPr/>
        </p:nvPicPr>
        <p:blipFill>
          <a:blip r:embed="rId5"/>
          <a:stretch/>
        </p:blipFill>
        <p:spPr>
          <a:xfrm>
            <a:off x="755640" y="1779480"/>
            <a:ext cx="7199280" cy="4572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Объект 9"/>
              <p:cNvSpPr txBox="1"/>
              <p:nvPr/>
            </p:nvSpPr>
            <p:spPr>
              <a:xfrm>
                <a:off x="3203640" y="2924280"/>
                <a:ext cx="3744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Объект 12"/>
              <p:cNvSpPr txBox="1"/>
              <p:nvPr/>
            </p:nvSpPr>
            <p:spPr>
              <a:xfrm>
                <a:off x="3292560" y="3860640"/>
                <a:ext cx="25588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Прибыль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Затраты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Инвестиции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1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TextBox 10"/>
            <p:cNvGrpSpPr/>
            <p:nvPr/>
          </p:nvGrpSpPr>
          <p:grpSpPr>
            <a:xfrm>
              <a:off x="5338440" y="420480"/>
              <a:ext cx="3805560" cy="871920"/>
              <a:chOff x="5338440" y="420480"/>
              <a:chExt cx="3805560" cy="871920"/>
            </a:xfrm>
          </p:grpSpPr>
          <p:pic>
            <p:nvPicPr>
              <p:cNvPr id="314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438520" y="47628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Оценка эффективности на действующем предприят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6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0B82-9C3E-4D67-A182-85919D5FB7B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Схема 3" descr=""/>
          <p:cNvPicPr/>
          <p:nvPr/>
        </p:nvPicPr>
        <p:blipFill>
          <a:blip r:embed="rId5"/>
          <a:stretch/>
        </p:blipFill>
        <p:spPr>
          <a:xfrm>
            <a:off x="1474920" y="1914480"/>
            <a:ext cx="61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2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TextBox 7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23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ложение дел в отрас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5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500-D84C-482E-A9E4-4120DC12BCA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4" descr=""/>
          <p:cNvPicPr/>
          <p:nvPr/>
        </p:nvPicPr>
        <p:blipFill>
          <a:blip r:embed="rId5"/>
          <a:stretch/>
        </p:blipFill>
        <p:spPr>
          <a:xfrm>
            <a:off x="773280" y="1609560"/>
            <a:ext cx="4752720" cy="245916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5585400" y="2100240"/>
            <a:ext cx="18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иаперевоз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Диаграмма 4" descr=""/>
          <p:cNvPicPr/>
          <p:nvPr/>
        </p:nvPicPr>
        <p:blipFill>
          <a:blip r:embed="rId6"/>
          <a:stretch/>
        </p:blipFill>
        <p:spPr>
          <a:xfrm>
            <a:off x="560520" y="4197240"/>
            <a:ext cx="76626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3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34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Сущность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E0B8-A981-4B7A-88D2-56C3DB32652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planprint"/>
          <p:cNvPicPr/>
          <p:nvPr/>
        </p:nvPicPr>
        <p:blipFill>
          <a:blip r:embed="rId5"/>
          <a:stretch/>
        </p:blipFill>
        <p:spPr>
          <a:xfrm>
            <a:off x="139680" y="1522440"/>
            <a:ext cx="3279960" cy="37353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0" y="5278320"/>
            <a:ext cx="867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Слесарно-механический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Цех по ремонту и техобслуживанию планеров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Цех ремонта агрегатов самолетов и двиг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Цех по ремонту и техобслуживанию планеров Air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– Механический це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– Цех по ремонту и техобслуживанию планеров ТУ-204, ТУ-214, ИЛ-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– Цех ремонта элементов план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ируемый цех – Цех по ремонту и техобслуживанию планеров ТУ-154, ИЛ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1" descr=""/>
          <p:cNvPicPr/>
          <p:nvPr/>
        </p:nvPicPr>
        <p:blipFill>
          <a:blip r:embed="rId6"/>
          <a:stretch/>
        </p:blipFill>
        <p:spPr>
          <a:xfrm>
            <a:off x="4583160" y="1522440"/>
            <a:ext cx="4421160" cy="30589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"/>
          <p:cNvSpPr/>
          <p:nvPr/>
        </p:nvSpPr>
        <p:spPr>
          <a:xfrm>
            <a:off x="5395320" y="45813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 подготовк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43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5" name="TextBox 10"/>
            <p:cNvGrpSpPr/>
            <p:nvPr/>
          </p:nvGrpSpPr>
          <p:grpSpPr>
            <a:xfrm>
              <a:off x="5338440" y="316800"/>
              <a:ext cx="3805560" cy="871920"/>
              <a:chOff x="5338440" y="316800"/>
              <a:chExt cx="3805560" cy="871920"/>
            </a:xfrm>
          </p:grpSpPr>
          <p:pic>
            <p:nvPicPr>
              <p:cNvPr id="346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31680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>
                <a:off x="5438520" y="37440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Сценарная матрица стратегических действ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8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D0ED-1752-463B-B43D-E00B0FDF8CC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Таблица 13" descr=""/>
          <p:cNvPicPr/>
          <p:nvPr/>
        </p:nvPicPr>
        <p:blipFill>
          <a:blip r:embed="rId5"/>
          <a:stretch/>
        </p:blipFill>
        <p:spPr>
          <a:xfrm>
            <a:off x="444600" y="1816200"/>
            <a:ext cx="81262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5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7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58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лан маркетинг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0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3A19-1E71-44FE-A46E-5DF5FD49B75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4080" y="2492280"/>
          <a:ext cx="4011480" cy="3627360"/>
        </p:xfrm>
        <a:graphic>
          <a:graphicData uri="http://schemas.openxmlformats.org/drawingml/2006/table">
            <a:tbl>
              <a:tblPr/>
              <a:tblGrid>
                <a:gridCol w="392040"/>
                <a:gridCol w="2603520"/>
                <a:gridCol w="1015920"/>
              </a:tblGrid>
              <a:tr h="106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виакомпания-эксплуа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-во план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oeing 737 Next Gen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Москва» («Moscow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Оренбургские авиалинии» («Orenair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Якут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 («Yakutia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ибир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 («S7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Трансаэро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ransaer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Аэросвит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erosvi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Газпромавиа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azpromavi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363" name="Rectangle 11"/>
          <p:cNvSpPr/>
          <p:nvPr/>
        </p:nvSpPr>
        <p:spPr>
          <a:xfrm>
            <a:off x="128520" y="17614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евая аудитория ТОи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oeing 737 Next Gen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Схема 6" descr=""/>
          <p:cNvPicPr/>
          <p:nvPr/>
        </p:nvPicPr>
        <p:blipFill>
          <a:blip r:embed="rId5"/>
          <a:stretch/>
        </p:blipFill>
        <p:spPr>
          <a:xfrm>
            <a:off x="4468680" y="1341360"/>
            <a:ext cx="4523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6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69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Финансовый пл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480F-F4E4-4C79-A480-62CCE27CEB6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187560" y="1486080"/>
            <a:ext cx="30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чет процентов по кредит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85760" y="1824120"/>
          <a:ext cx="7710480" cy="1055520"/>
        </p:xfrm>
        <a:graphic>
          <a:graphicData uri="http://schemas.openxmlformats.org/drawingml/2006/table">
            <a:tbl>
              <a:tblPr/>
              <a:tblGrid>
                <a:gridCol w="652320"/>
                <a:gridCol w="1513080"/>
                <a:gridCol w="1008000"/>
                <a:gridCol w="1440000"/>
                <a:gridCol w="1635120"/>
                <a:gridCol w="1461960"/>
              </a:tblGrid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лг на начал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нну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% погаш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едит погаш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лг 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11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880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880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8 4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321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0 6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1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06280" y="3376440"/>
          <a:ext cx="7101000" cy="3365640"/>
        </p:xfrm>
        <a:graphic>
          <a:graphicData uri="http://schemas.openxmlformats.org/drawingml/2006/table">
            <a:tbl>
              <a:tblPr/>
              <a:tblGrid>
                <a:gridCol w="2365560"/>
                <a:gridCol w="966600"/>
                <a:gridCol w="908280"/>
                <a:gridCol w="893520"/>
                <a:gridCol w="982800"/>
                <a:gridCol w="984240"/>
              </a:tblGrid>
              <a:tr h="1836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 grid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35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нвестицион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4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ая деятельност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8 615 7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2 022 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3 456 8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 887 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 887 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руч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8 292 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8 765 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7 501 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5 378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5 378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ые расх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4 296 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5 982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0 917 8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4 904 6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4 904 6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лог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5 379 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0 761 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127 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586 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586 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нансовая деятельност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160 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 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 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ствен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281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ем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зврат креди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 том числе процен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2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0 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нежный поток за пери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8 615 7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2 022 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1 617 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 047 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 047 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сконтированный денежный поток за пери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1 913 8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 701 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3 491 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 349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 512 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сконтный множитель при ставке дисконтирования 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3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376" name="Прямоугольник 13"/>
          <p:cNvSpPr/>
          <p:nvPr/>
        </p:nvSpPr>
        <p:spPr>
          <a:xfrm>
            <a:off x="179280" y="29973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ежные поток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2:32:01Z</dcterms:created>
  <dc:creator>User</dc:creator>
  <dc:description/>
  <dc:language>en-US</dc:language>
  <cp:lastModifiedBy>Гончарова Анастасия Вячеславовна</cp:lastModifiedBy>
  <dcterms:modified xsi:type="dcterms:W3CDTF">2011-05-31T11:08:34Z</dcterms:modified>
  <cp:revision>59</cp:revision>
  <dc:subject/>
  <dc:title>Итоговое совещание Совета УМО</dc:title>
</cp:coreProperties>
</file>