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640-5997-48B7-B67E-3D7CD97D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7D34-7EA6-499A-BE3E-82B31BEF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5F20-BB29-41BF-8783-A3BDA527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A981-2E49-47C1-8B86-948FA093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C5DC-1F3C-449E-B2C2-A1B13E70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874B-E982-432B-BD37-206BAB4F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7EB2-413D-4660-B5B5-F2E7B101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0256-882E-4B4F-AC6B-2942FC6A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D4E1-05F0-4D87-8665-0D6D5CC4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1DC4-870E-4C52-9B3D-7500FDA4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5A2B-CF21-4304-8554-5AE3E5CE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534C-6A3E-44B3-96DA-82974956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36A6-09FC-4AE5-9624-CDD97C20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E808-053D-4392-910E-6C1D761E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1DFC-6BEC-4420-B2CE-B73606AA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4291-6CB2-42DE-B7DB-ACD6C176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5052-8341-4BBE-9F7E-E62673E9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E192-DC0B-4C0D-BEBE-09E0BD23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72E3-5DB7-4756-96E6-12A9EA05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D6A-BCED-457B-991A-20A96B0E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247D-54BA-4E84-9033-8582FB24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6625-5B88-404D-887A-0534E9EC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47D-AB6C-4F17-933A-066B389A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1434-A2BE-4D9A-9698-70C2A39F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E7CD-0952-4F32-B32B-A9073C16390D}" type="datetime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FD04-605C-41BA-811E-DDC3063286FA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2010-997B-49A7-B351-CA89F37F6AD2}" type="datetime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570A-72A0-4CA6-BAA9-05364FF27AD5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90099"/>
                </a:solidFill>
                <a:latin typeface="Times New Roman"/>
              </a:rPr>
              <a:t>Дипломный проект</a:t>
            </a:r>
            <a:endParaRPr b="0" lang="en-US" sz="4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Times New Roman"/>
              </a:rPr>
              <a:t>«Анализ эффективности рекламы ПО «ХимСтальКомплект» 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Times New Roman"/>
              </a:rPr>
              <a:t>в сети Интернет»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Разработал:  Механов Е.В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Руководитель:  Шовкун Э.А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f6f6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Цели создания корпоративного сайта</a:t>
            </a:r>
            <a:br>
              <a:rPr sz="3600"/>
            </a:b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ПО «ХимСтальКомплект»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здание имиджа компании - корпоративная реклам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Консультативная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Привлечение новых клиентов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нижение затрат на реклам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Увеличение объема продаж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143000" y="762120"/>
            <a:ext cx="7440480" cy="1003320"/>
            <a:chOff x="1143000" y="762120"/>
            <a:chExt cx="7440480" cy="1003320"/>
          </a:xfrm>
        </p:grpSpPr>
        <p:sp>
          <p:nvSpPr>
            <p:cNvPr id="88" name=""/>
            <p:cNvSpPr/>
            <p:nvPr/>
          </p:nvSpPr>
          <p:spPr>
            <a:xfrm>
              <a:off x="1143000" y="762120"/>
              <a:ext cx="20574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05720" y="762120"/>
              <a:ext cx="18777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2193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2d5b"/>
                </a:solidFill>
                <a:latin typeface="Tahoma"/>
              </a:rPr>
              <a:t>Число клиентов, в зависимости от видов Интернет рекламы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8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ff"/>
                </a:solidFill>
                <a:latin typeface="Tahoma"/>
                <a:ea typeface="Times New Roman"/>
              </a:rPr>
              <a:t>Среднее количество клиентов, обратившихся в  компании трубного сектора</a:t>
            </a:r>
            <a:r>
              <a:rPr b="1" lang="ru-RU" sz="3600" spc="-1" strike="noStrike">
                <a:solidFill>
                  <a:srgbClr val="cccc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79640" y="1374840"/>
          <a:ext cx="7226280" cy="51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374840"/>
                    <a:ext cx="722628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спользуемые виды рекламы для достижения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максимального эффекта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1295280"/>
            <a:ext cx="8076600" cy="4957920"/>
            <a:chOff x="762120" y="1295280"/>
            <a:chExt cx="8076600" cy="4957920"/>
          </a:xfrm>
        </p:grpSpPr>
        <p:grpSp>
          <p:nvGrpSpPr>
            <p:cNvPr id="102" name=""/>
            <p:cNvGrpSpPr/>
            <p:nvPr/>
          </p:nvGrpSpPr>
          <p:grpSpPr>
            <a:xfrm>
              <a:off x="768240" y="1299600"/>
              <a:ext cx="8063280" cy="4948200"/>
              <a:chOff x="768240" y="1299600"/>
              <a:chExt cx="8063280" cy="49482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768240" y="1299600"/>
                <a:ext cx="3529080" cy="630000"/>
                <a:chOff x="768240" y="1299600"/>
                <a:chExt cx="3529080" cy="630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858960" y="1299600"/>
                  <a:ext cx="33472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660066"/>
                      </a:solidFill>
                      <a:latin typeface="Arial"/>
                      <a:ea typeface="Times New Roman"/>
                    </a:rPr>
                    <a:t>Платные</a:t>
                  </a: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68240" y="1299600"/>
                  <a:ext cx="3529080" cy="63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297680" y="1299600"/>
                <a:ext cx="4533840" cy="630000"/>
                <a:chOff x="4297680" y="1299600"/>
                <a:chExt cx="4533840" cy="630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388400" y="1299600"/>
                  <a:ext cx="435240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660066"/>
                      </a:solidFill>
                      <a:latin typeface="Arial"/>
                      <a:ea typeface="Times New Roman"/>
                    </a:rPr>
                    <a:t>Бесплатные</a:t>
                  </a: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297680" y="1299600"/>
                  <a:ext cx="4533840" cy="63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768240" y="1929600"/>
                <a:ext cx="3529080" cy="1349280"/>
                <a:chOff x="768240" y="1929600"/>
                <a:chExt cx="3529080" cy="13492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858960" y="1929600"/>
                  <a:ext cx="3347280" cy="13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r" pos="449280"/>
                      <a:tab algn="ctr" pos="2970360"/>
                      <a:tab algn="r" pos="594036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Размещение рекламных баннеров на отраслевых ресурсах.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r" pos="449280"/>
                      <a:tab algn="ctr" pos="2970360"/>
                      <a:tab algn="r" pos="594036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68240" y="1929600"/>
                  <a:ext cx="3529080" cy="134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4297680" y="1929600"/>
                <a:ext cx="4533840" cy="1349280"/>
                <a:chOff x="4297680" y="1929600"/>
                <a:chExt cx="4533840" cy="13492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388400" y="1929600"/>
                  <a:ext cx="4352400" cy="13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Отраслевые доски объявлений.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Разделы “Продукция” на сайтах – система прайс-листов и потребностей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Каталоги “Предприятий”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297680" y="1929600"/>
                  <a:ext cx="4533840" cy="134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68240" y="3278880"/>
                <a:ext cx="3529080" cy="989280"/>
                <a:chOff x="768240" y="3278880"/>
                <a:chExt cx="3529080" cy="9892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858960" y="3278880"/>
                  <a:ext cx="3347280" cy="98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Размещение объявлений в тематических отраслевых рассылках.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68240" y="3278880"/>
                  <a:ext cx="3529080" cy="98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297680" y="3278880"/>
                <a:ext cx="4533840" cy="989280"/>
                <a:chOff x="4297680" y="3278880"/>
                <a:chExt cx="4533840" cy="989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4388400" y="3278880"/>
                  <a:ext cx="4352400" cy="98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Прямые почтовые рассылки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297680" y="3278880"/>
                  <a:ext cx="4533840" cy="98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768240" y="4268520"/>
                <a:ext cx="3529080" cy="989280"/>
                <a:chOff x="768240" y="4268520"/>
                <a:chExt cx="3529080" cy="989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858960" y="4268520"/>
                  <a:ext cx="3347280" cy="98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Контекстный показ баннеров на поисковых системах (Yandex.ru и др.)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68240" y="4268520"/>
                  <a:ext cx="3529080" cy="98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4297680" y="4268520"/>
                <a:ext cx="4533840" cy="989280"/>
                <a:chOff x="4297680" y="4268520"/>
                <a:chExt cx="4533840" cy="9892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388400" y="4268520"/>
                  <a:ext cx="4352400" cy="98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Обмен ссылками с другими сайтами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297680" y="4268520"/>
                  <a:ext cx="4533840" cy="98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768240" y="5258160"/>
                <a:ext cx="3529080" cy="989640"/>
                <a:chOff x="768240" y="5258160"/>
                <a:chExt cx="3529080" cy="9896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858960" y="5258160"/>
                  <a:ext cx="3347280" cy="98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Платное размещение баннеров в баннерообменных сетях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68240" y="5258160"/>
                  <a:ext cx="3529080" cy="98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4297680" y="5258160"/>
                <a:ext cx="4533840" cy="989640"/>
                <a:chOff x="4297680" y="5258160"/>
                <a:chExt cx="4533840" cy="9896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388400" y="5258160"/>
                  <a:ext cx="4352400" cy="98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Участие в баннерообменных сетях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297680" y="5258160"/>
                  <a:ext cx="4533840" cy="98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762120" y="1295280"/>
              <a:ext cx="8076600" cy="4957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ПОСЕЩАЕМОСТЬ САЙТА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ПО «ХИМСТАЛЬКОМПЛЕКТ» </a:t>
            </a:r>
            <a:br>
              <a:rPr sz="24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01.12.2001г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по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01.01.2003г.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414440" y="109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447920"/>
          <a:ext cx="7543800" cy="541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447920"/>
                    <a:ext cx="75438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8655120" y="603396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ahoma"/>
                <a:ea typeface="Times New Roman"/>
              </a:rPr>
              <a:t>Отдела рекламы ПО «ХимСтальКомплект» до реорганизации</a:t>
            </a:r>
            <a:r>
              <a:rPr b="1" lang="ru-RU" sz="3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8655120" y="603396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1523880"/>
            <a:ext cx="4419360" cy="1447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Times New Roman"/>
              </a:rPr>
              <a:t>Начальник отдела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3886200"/>
            <a:ext cx="3733560" cy="1523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Специалист по рекламе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3886200"/>
            <a:ext cx="3809880" cy="1523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Специалист по рекламе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342900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342900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3429000"/>
            <a:ext cx="419112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297180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ccd9"/>
            </a:gs>
            <a:gs pos="50000">
              <a:srgbClr val="ccffff"/>
            </a:gs>
            <a:gs pos="100000">
              <a:srgbClr val="a7ccd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990099"/>
                </a:solidFill>
                <a:latin typeface="Tahoma"/>
                <a:ea typeface="Times New Roman"/>
              </a:rPr>
              <a:t>Отдел рекламы после реорганизации</a:t>
            </a:r>
            <a:r>
              <a:rPr b="0" lang="ru-RU" sz="3500" spc="-1" strike="noStrike">
                <a:solidFill>
                  <a:srgbClr val="990099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52760" y="1295280"/>
            <a:ext cx="4038480" cy="106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Ведущий специалист по рекламе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2514600"/>
            <a:ext cx="327672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743200"/>
            <a:ext cx="3505320" cy="144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Группа продвижения товаров и стимулирования сбыта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2743200"/>
            <a:ext cx="3505320" cy="1447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Группа организации рекламных кампаний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4648320"/>
            <a:ext cx="3505320" cy="1447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Специалисты продвижения товаров и стимулирования сбыта (2 человека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4648320"/>
            <a:ext cx="3505320" cy="1447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Специалисты по рекламе   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(2 человека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2514600"/>
            <a:ext cx="0" cy="2286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2362320"/>
            <a:ext cx="0" cy="152280"/>
          </a:xfrm>
          <a:prstGeom prst="line">
            <a:avLst/>
          </a:prstGeom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2514600"/>
            <a:ext cx="0" cy="2286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419112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419112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06:24:26Z</dcterms:created>
  <dc:creator>Козлова М.Е.</dc:creator>
  <dc:description/>
  <dc:language>en-US</dc:language>
  <cp:lastModifiedBy>user</cp:lastModifiedBy>
  <dcterms:modified xsi:type="dcterms:W3CDTF">2003-06-05T01:59:54Z</dcterms:modified>
  <cp:revision>59</cp:revision>
  <dc:subject/>
  <dc:title>Дипломный проект</dc:title>
</cp:coreProperties>
</file>