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85E-8E27-4909-AEFD-91C666D1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B90-B0EF-4B1E-B7A9-A5E8132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027-86F8-4115-A6B3-650DF16F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4BD-2D3A-4D29-B826-A804BE36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6CB34-1EAA-499D-BC0E-7E5FB74F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69C9A-A667-4EF9-AC35-BE578C06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2552-45ED-452B-9ABD-F66D851D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09DC5-EB89-4678-BAE9-94375E81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88BF6-E12D-4A54-9F68-58E1085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8660-0D4A-45EA-9801-D622934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E773E-8AFD-490B-84B5-DC9C100A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979-09E1-4542-9298-A0BB2D4F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E3520-61B0-4CDD-A641-8D53177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581E1-DD16-47D1-BA0E-E2EA58B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ECE57-C51F-4A00-AA6C-37D0280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025C1-ACDD-450C-B69D-31758AC0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85284-29F4-4555-AC03-0280464C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710-6245-4FEC-AE6B-8B5E47BB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009-F31F-43D1-90CA-EFFF754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D03-90F4-4263-872F-F95283D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ECC-56F1-411B-9DA0-CCD132AD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655-C964-4A5F-A348-0262B3AF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BBA-16CB-4A33-B460-47BB6DAF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B8A-EAA9-4C9D-BE14-B1F25AA5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E570-9AB5-4D45-8A73-DDDEF1B419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67F2-CE43-4DD4-9F04-52EAC7580E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Управление персонал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87280" y="40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пломная раб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2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к составная часть менеджмен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Методы анали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и анализ основных показателей, характеризующих состояние и степень использования трудовых ресур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влияния отдельных факторов на изменение результативного показателя способом детерминированного факторного анализ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роение графиков, характеризующих стиль руководства, лидера организации, культуру управления, критерии успеха, характеристики организации с помощью инструмент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Направление совершенствования кадрового менеджмента на предприя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075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стимул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9368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управления персон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924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квалификации кад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Система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средственная связь с достигнутыми успех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аграждение за перевыполнение пл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сутствие «потолка» прем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ответствие з/платы реальному вкладу в успех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ение базовых окладов для руко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сткая схема начисления премий. Три категории оценки результатов (хорошо, удовлетворительно, плохо), рейтинг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мию вручает непосредственный начальник. Обязательно проведение бес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я премиальных выплат не завизящих от результатов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Неэкономические методы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мен опытом (переброска из одной группы в другую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профессиональных конк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ральное стимулирование (похвала, грамота, доска почета и т.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Изменение в культур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014480"/>
          <a:ext cx="7561440" cy="55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14480"/>
                    <a:ext cx="756144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5:15:38Z</dcterms:created>
  <dc:creator/>
  <dc:description/>
  <dc:language>en-US</dc:language>
  <cp:lastModifiedBy>Andrey L.</cp:lastModifiedBy>
  <dcterms:modified xsi:type="dcterms:W3CDTF">2004-09-28T07:44:24Z</dcterms:modified>
  <cp:revision>7</cp:revision>
  <dc:subject/>
  <dc:title>Управление персоналом</dc:title>
</cp:coreProperties>
</file>