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1DE-A2B2-4614-BDC2-2B4D5882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550-52EE-4AAD-8BFB-CA3F5455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3124-80B9-42AE-8CF7-643F6F93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918-0EC3-43CE-B3DD-44030BD0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83EF-B974-43E7-813E-3E817536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CD69-8970-430A-A135-46017086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6C42-E4FE-45E5-90DF-1A339E1B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B94C-E1F4-43EA-BC80-991E111B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BD7E-3BD3-4531-AFE8-68DF167D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1B38-62BD-4857-912A-235798AD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E0D0-1C8E-49DC-B20A-86B7DAB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74A-4FDC-4D73-8BAE-5CD713DF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9ED3-E69D-4EC3-9102-4B31F1A3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E10F-0F63-4969-B898-6A903EC4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1B49-D79F-454B-AE1A-69782C98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6BCC-B393-4151-B84E-8FD76B2A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3CA2-5C19-4872-8796-F45B6FBF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227-9BF2-4A56-BC43-1351CA64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B5D-18C2-4DA2-A65E-5617E4F6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AC9-5A41-419B-AAE5-28107B15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071-79F9-4203-B189-7D542309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281-AD1A-4265-8291-1224F010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C11-2C59-4195-8053-DBA13E3E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796-6E17-45A0-A055-D2BC0B00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438A-6590-4C81-9E7A-BD2A8EAB5EB3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D400-81EC-49CE-B2A3-450F9D3080CB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F83B-FAEF-4B52-B85E-7B274A75A494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9C3F-1AAA-4765-AB24-93191A587AAC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825480"/>
            <a:ext cx="47242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лки и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аминокисло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8007480"/>
            <a:ext cx="281916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овец Александр и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йлов Алексей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8172360"/>
            <a:ext cx="714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220011"/>
                </a:solidFill>
                <a:latin typeface="Impact"/>
              </a:rPr>
              <a:t>11-3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220011"/>
              </a:soli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12:51Z</dcterms:created>
  <dc:creator>Алексей</dc:creator>
  <dc:description/>
  <dc:language>en-US</dc:language>
  <cp:lastModifiedBy>Алексей</cp:lastModifiedBy>
  <cp:lastPrinted>2002-03-18T20:47:09Z</cp:lastPrinted>
  <dcterms:modified xsi:type="dcterms:W3CDTF">2002-03-19T13:01:34Z</dcterms:modified>
  <cp:revision>4</cp:revision>
  <dc:subject/>
  <dc:title>Заголовок слайда отсутствует</dc:title>
</cp:coreProperties>
</file>