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8BD-4EF0-445E-90F1-07631E64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AC4-32A1-4E57-B1D8-FCCAF5D0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10DA-5B97-4249-B0D1-BB94590A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8923-1F35-484A-81A7-C1668D1A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4625-5662-42BB-B180-9B62C97A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0727-83F6-4400-B7E5-8C26B04A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43F0-F624-4EA3-9735-8E851F43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76EC-AD01-4D8B-AD11-6C83458C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44B7-099E-432B-9A42-05D16832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9AB9-465C-441F-8E5B-B16AD99F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EAC4-7BE5-4F58-9F77-C77AB054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15B-35FF-4898-81D0-045ECFF5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0FBD-45F1-4F53-9D76-97104AE2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1C37-CD50-48F7-968A-86DC86C9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81BB-EAA0-4DAA-89E3-3B0F080C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B734-4F10-4C3F-A070-E803E30D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86D2-B1E0-422B-BE94-A8D37F74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6265-93C7-46C0-9D96-747AC2D2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BC8-68C6-4FE2-811E-173DD006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95B1-BEE7-4DDE-A105-9AACD367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B08B-0DAE-4B5C-AAB2-6BD77078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87D-837C-4940-997C-11F86127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C2C-FADA-42AA-B846-0EE6994F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FAD-F7BF-4A89-983A-653A2368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7A79-40C2-44B2-A7F3-C3F8CD10BCBF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5FEB-F7C0-4768-BBF7-46A48ABC9D80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EC8A-9ACC-4B7F-91B3-E8C15A943C1C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E2FC-DCD1-4950-986D-8947ED8373A4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143000" y="825480"/>
            <a:ext cx="4724280" cy="23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елки и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аминокислот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33920" y="8007480"/>
            <a:ext cx="2819160" cy="94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лимовец Александр и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хайлов Алексей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8172360"/>
            <a:ext cx="71424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220011"/>
                </a:solidFill>
                <a:latin typeface="Impact"/>
              </a:rPr>
              <a:t>11-3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220011"/>
              </a:solidFill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20:12:51Z</dcterms:created>
  <dc:creator>Алексей</dc:creator>
  <dc:description/>
  <dc:language>en-US</dc:language>
  <cp:lastModifiedBy>Алексей</cp:lastModifiedBy>
  <cp:lastPrinted>2002-03-18T20:47:09Z</cp:lastPrinted>
  <dcterms:modified xsi:type="dcterms:W3CDTF">2002-03-19T13:01:34Z</dcterms:modified>
  <cp:revision>4</cp:revision>
  <dc:subject/>
  <dc:title>Заголовок слайда отсутствует</dc:title>
</cp:coreProperties>
</file>